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FAC-35D3-43DF-9B97-D151E4B2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6D4-7E85-4265-B1CE-A192B9B6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154-3448-481E-9B8A-593B525E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D76-C789-4F41-A73C-1300BB69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398-15E8-437B-BED4-A39AA9C7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22B-967B-4B5D-8B8B-16C93712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07F-089C-4DB9-924A-A862C44A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453-38EC-4EFA-BD39-8481539E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468-C4A7-4F82-82CD-EE880149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6D7-F5E3-48B6-A38E-52CAC1E9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5ED-FD3A-488E-9BCE-8FCDE76B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FA7-A934-4FB5-98A3-FC264052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098A-90D6-4C94-BF4F-0D995E8128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84872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МОУ «Кировская СОШ»</a:t>
            </a:r>
            <a:br>
              <a:rPr sz="44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ВОСПИТАНИЕ ТОЛЕРАНТНОСТИ</a:t>
            </a:r>
            <a:br>
              <a:rPr sz="6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Арестанова Айслу Жанзак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3класс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Вместе лучш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 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диагностика учащихся, классный час Культура мира. Человек среди люд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знакомство с русской национальной культурой, фольклорный праздник «Русские посидел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стория национального костюма (познавательная экскурсия в краеведческий музей), осенние игры и состя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ак встречают Новый год в разных странах (игра-путешествие), новогодний праздник «Свя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Мы-- команда одного корабл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аздник «Масле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итательская конференция по сказкам народов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Стремись делать доб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аздник «Я, ты, он, она—вместе дружная сем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4класс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Учимся договариватьс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диагностика учащихся. Классный час «О правах и обязанностях ребёнка». Знакомство с Конвенцией о правах ребёнка и уставом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психологическая игра «Необитаемы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сихологический тренинг «Научись управлять соб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сс-конференция (с участием родителей) « Однажды в моём кла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Классный час « Шесть шагов разрешения конфлик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встреча с инспектором отдела профилактики правонару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-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Классный час «Учимся договариватьс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Классный час «Улыбка и смех приятны для все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игровая программа «Час общ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авайте учиться говорить друг другу комплимен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«Я хороший, ты хороший»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Нарисуй себя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Заплети косичк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Все мы разные, но все мы вмест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айничек с кры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ышечка 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крышечкой, крышечка с чайничк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крышечкой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ышечка 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крышечкой, крышечка 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Школа является своего рода центром сообщества.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 школе происходит прогнозирование и планирование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удущего, через школу сообщество формулирует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 утверждает собственные перспек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тти Э. Риэр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 дырочки , дырочка 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ар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  XVIII-XIX в. Франция - Талейран Перигор, князь Беневентск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“tolerantia” (лат.) – терпение – терпимость к иного рода взглядам, нравам, привыч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Воспитание культуры толерантности у детей младшего возраст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усматривает следующие направления обучения толерант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детей с принципом уважения человеческого достоинства всех без исключ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Понимание того, что требуется уважать различия между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принципа взаимодополняемости как основной черты различий. Ученики должны понять, что различия выступают как дополняющие друг друга эле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принципа взаимозависимости как основы совместных действий. Учащихся следует приучать к совместному решению проблем и разделению труда при выполнении заданий—это наглядно показывает, как выигрывает каждый при решении проблем через сотрудни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И как результат—приобщение к культуре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1класс 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Arial"/>
              </a:rPr>
              <a:t>Я и моя 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209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–диагностика учащихся( опросник для индивидуального знакомства с воспитанник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день бабушек( в рамках декады пожилых люд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--классный час «Моя сем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--Праздничный концерт «Новогодняя карусель», конкурс на лучшую игрушку Мастерская Деда Мороз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классный час «На кого я хочу быть похожим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конкурс «Сильные, смелые, ловкие, умелые.»(папы и мальч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---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аздник для мам и девочек «Дорогие и любимы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 родительское собрание совместно с учащимися, рассказ о профессиях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игра-марафон «Весёлый поез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2класс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"/>
              </a:rPr>
              <a:t>Ты да я , да мы с тобой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диагностика учащихся Классный час «Ты да я , да мы с тобой», составление декларации прав и обязанностей учеников 2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 –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укцион «Книга рекордов нашего кла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диспут «Легко ли быть настоящим другом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читательская конференция по сказкам Х.К. Андерсена, новогодний бал-маскарад «Новогодний коктей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лассный час «Я и моё им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праздник «Мама, папа, я—спортивная сем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онкурс «Мисс и мистер кла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О дружб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ВН «Наш клас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5:46:09Z</dcterms:created>
  <dc:creator>User</dc:creator>
  <dc:description/>
  <dc:language>en-US</dc:language>
  <cp:lastModifiedBy>User</cp:lastModifiedBy>
  <dcterms:modified xsi:type="dcterms:W3CDTF">2010-11-02T08:35:28Z</dcterms:modified>
  <cp:revision>8</cp:revision>
  <dc:subject/>
  <dc:title>Слайд 1</dc:title>
</cp:coreProperties>
</file>