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1067-0BB4-4F4A-BCE1-8D51668DC4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A823-22E2-4507-B113-8E9855F2C0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7AA6-5AA7-4A98-BD32-5B24A48A27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5754-1CA9-4780-A030-3A1BD4699D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EE89-5B8B-42EB-B122-D6C76D86F6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73C8-4520-4B4A-AF69-65DD381853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D1A7-429B-48F3-B624-EB966234DE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6194-5EF1-468F-9B85-33FBDA101B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937-DD29-4E0A-8A5A-5C31C299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C76-A802-47B6-9C5B-64C4964D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F23-061A-4031-BB87-81E5D5BA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92D-16F9-4A90-9E09-86E9DAC7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EF1A-A750-41EF-8807-7B34FE0E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81A4-AA0C-4D6C-B334-7FBA7B8C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F284-5AB5-45CA-BC97-984D4D6E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CB99-56F4-418C-BED3-4AFDB3A5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C08C-9DFC-4AF6-84B9-CF5A0119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BEE8-C92F-4784-8B24-5CB10B06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6AE8-6A1D-47DE-A55A-4EFCEA8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4C9-0EC5-4869-8B09-AD8864EC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D201-6E9C-4C55-834A-8E880B67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3149-3771-4F19-A1B4-95594D26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42B6-3546-4D1B-BE4B-7305B01D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2B5A-EB04-4E9F-A854-0BCD6798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B38F-8B02-46CA-B959-3CF1C4BC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9FAD-EB5E-4C69-8820-25C55900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A414-169A-4A02-9CA8-93EF30B8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A2A2-0669-4B05-8FDF-AE83C7FC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599C-E755-4689-ADAB-7B8AB850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6B56-C01C-42C6-B9DC-951F2D07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7B6-591E-470B-B8C7-1A98C4DE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B907-850C-404B-9242-F6F8CBC2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67D8-21EB-4A46-B20C-65D6DBE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199F-23F6-4993-8120-835D6C29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7B5A0-D9F5-483F-ADFE-4782CDF2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A959-E2E5-4950-B413-C7E5BFC5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ECD1-D7B3-402B-8DDF-D859CD92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4AF52-6D52-4DE7-AE94-81260F5B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A930-2F8E-4E5E-8AC6-EEBF40B8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8711-E5E0-4C9A-AEC4-CF758F04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A600-2476-487D-8575-CF033B0D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D9F-804C-4F14-94EE-F2C4A07C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5EDA-1590-418F-AA15-6FBE7EE4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B9AC-3AD3-48D4-8582-A06C293F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F1E57-8768-459D-B3F8-8531626B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57E53-09AC-4E9C-ABE0-83690886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47813-924E-4852-B7D5-15CA92D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57425-C100-4FAF-B713-96716956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091B-2F8E-4916-811B-59095CE8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AD86D-6B46-4666-BC07-F0926FEC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F3278-005D-48AC-8E9C-B39E4B9D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13E62-4601-40AD-AA2E-040EEC3F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E44-14F0-441A-B22D-D131CE31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3A96D-8C74-4603-A313-2C9A8378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741D-25A3-4022-B9C5-E9EE01D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BEC9A-82F7-4E04-8AEE-52C59430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0F38-703F-4291-92B4-2BB0CB7D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61D86-9A8E-4CCB-A4A5-86795483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81E93-F8D2-4EAF-ABE4-0896D751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A1B6D-3BFA-4A3A-A13B-A1BE920B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53989-932C-4493-8DBC-CAA4ED9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B8F3-65CB-4364-9C2F-B4408D84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7BE4-532A-4A57-9139-662B7261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296-2FCC-49E9-9F75-08A0159A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A1E1A-6099-4D1F-80A5-AEE0662E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AC3-F890-4363-AD9B-C60BA000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897-52D7-440C-8BC3-977947C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5C1-122C-45E8-B7E0-3E14579F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0A4-F1F7-435B-909B-89CAA9341B9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303D-8395-4EEF-941C-29744C18D24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3CE9-A658-49CA-BCD4-051F02169CE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4B07-085F-4E0B-97F2-CEF8A5A9628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DDBA-5C36-42D0-9EFC-FEA516F8C0D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16 ноября -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57160" y="36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Verdana"/>
              </a:rPr>
              <a:t>Международный день толерантност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1"/>
          <p:cNvSpPr/>
          <p:nvPr/>
        </p:nvSpPr>
        <p:spPr>
          <a:xfrm rot="238200">
            <a:off x="3097080" y="1695600"/>
            <a:ext cx="3664080" cy="32526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леран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3"/>
          <p:cNvSpPr/>
          <p:nvPr/>
        </p:nvSpPr>
        <p:spPr>
          <a:xfrm flipH="1">
            <a:off x="4928760" y="1000080"/>
            <a:ext cx="1800" cy="928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6143760" y="3429000"/>
            <a:ext cx="114300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2"/>
          <p:cNvSpPr/>
          <p:nvPr/>
        </p:nvSpPr>
        <p:spPr>
          <a:xfrm>
            <a:off x="4815720" y="4944960"/>
            <a:ext cx="34920" cy="6271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7"/>
          <p:cNvSpPr/>
          <p:nvPr/>
        </p:nvSpPr>
        <p:spPr>
          <a:xfrm flipH="1" flipV="1">
            <a:off x="2285640" y="3429000"/>
            <a:ext cx="150012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2"/>
          <p:cNvSpPr/>
          <p:nvPr/>
        </p:nvSpPr>
        <p:spPr>
          <a:xfrm flipV="1">
            <a:off x="6300720" y="1499760"/>
            <a:ext cx="628560" cy="7635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5"/>
          <p:cNvSpPr/>
          <p:nvPr/>
        </p:nvSpPr>
        <p:spPr>
          <a:xfrm flipH="1" flipV="1">
            <a:off x="2928960" y="1499760"/>
            <a:ext cx="1285920" cy="10717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9"/>
          <p:cNvSpPr/>
          <p:nvPr/>
        </p:nvSpPr>
        <p:spPr>
          <a:xfrm flipH="1">
            <a:off x="3357720" y="4500000"/>
            <a:ext cx="642960" cy="5713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2"/>
          <p:cNvSpPr/>
          <p:nvPr/>
        </p:nvSpPr>
        <p:spPr>
          <a:xfrm>
            <a:off x="5929200" y="4500720"/>
            <a:ext cx="928800" cy="8571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лыбающееся лицо 44"/>
          <p:cNvSpPr/>
          <p:nvPr/>
        </p:nvSpPr>
        <p:spPr>
          <a:xfrm>
            <a:off x="4500720" y="3643200"/>
            <a:ext cx="914400" cy="92880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50"/>
          <p:cNvSpPr/>
          <p:nvPr/>
        </p:nvSpPr>
        <p:spPr>
          <a:xfrm>
            <a:off x="4071960" y="642960"/>
            <a:ext cx="1785960" cy="9856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мириться с чужим мнен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51"/>
          <p:cNvSpPr/>
          <p:nvPr/>
        </p:nvSpPr>
        <p:spPr>
          <a:xfrm>
            <a:off x="6643800" y="714240"/>
            <a:ext cx="2071440" cy="9288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Терпимость к другим верования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52"/>
          <p:cNvSpPr/>
          <p:nvPr/>
        </p:nvSpPr>
        <p:spPr>
          <a:xfrm>
            <a:off x="6929280" y="2928960"/>
            <a:ext cx="1857600" cy="10717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а быть ин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53"/>
          <p:cNvSpPr/>
          <p:nvPr/>
        </p:nvSpPr>
        <p:spPr>
          <a:xfrm>
            <a:off x="714240" y="714240"/>
            <a:ext cx="2286000" cy="13575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онимать и принимать человека таким , каков он е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54"/>
          <p:cNvSpPr/>
          <p:nvPr/>
        </p:nvSpPr>
        <p:spPr>
          <a:xfrm>
            <a:off x="357120" y="3000240"/>
            <a:ext cx="19144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роща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55"/>
          <p:cNvSpPr/>
          <p:nvPr/>
        </p:nvSpPr>
        <p:spPr>
          <a:xfrm>
            <a:off x="1071720" y="4786200"/>
            <a:ext cx="23428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Проявлять сострадание, милосерд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авая фигурная скобка 56"/>
          <p:cNvSpPr/>
          <p:nvPr/>
        </p:nvSpPr>
        <p:spPr>
          <a:xfrm>
            <a:off x="6929280" y="521496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7"/>
          <p:cNvSpPr/>
          <p:nvPr/>
        </p:nvSpPr>
        <p:spPr>
          <a:xfrm>
            <a:off x="6643800" y="5000760"/>
            <a:ext cx="1928880" cy="10573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 други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58"/>
          <p:cNvSpPr/>
          <p:nvPr/>
        </p:nvSpPr>
        <p:spPr>
          <a:xfrm>
            <a:off x="3857760" y="5572080"/>
            <a:ext cx="198576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человеческого досто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d3e"/>
                </a:solidFill>
                <a:latin typeface="Verdana"/>
              </a:rPr>
              <a:t>Пропущенные слова : дружба, уважение, расположение, человеколюбие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, чтобы нас уважали, то мы также должны иметь _______ к другим людям.( Кант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крет успеха в обществе прост: нужна сердечность и _______ к другим.(Эмерсо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 быть любимы, то надо также проявить _________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ее, что есть в жизни человека,- это его __________ с другими людьми.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Паломничест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м объектом паломничества христиан является _______ в городе 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мусульман чрезвычайно важно паломничество в город 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удеи главной своей святыней считают город _____, храм, который получил название 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ломничества в буддизме ( _____) начались с поклонения останкам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Религиозные праздник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иудаизма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христиан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мусульман- 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ый важный праздник буддистов- 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__________ , уметь _________   с существованием чего-либо, кого-либо, быть ___________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8d3e"/>
                </a:solidFill>
                <a:latin typeface="Verdana"/>
              </a:rPr>
              <a:t>Выдержка, примирение, великодушие, снисходительность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нисходительный, великодушный, милосерд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щает, принима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выдержанным , уметь  мириться  с существованием чего-либо, кого-либо, быть снисходительным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4:54:28Z</dcterms:created>
  <dc:creator>admin</dc:creator>
  <dc:description/>
  <dc:language>en-US</dc:language>
  <cp:lastModifiedBy>Людмила</cp:lastModifiedBy>
  <dcterms:modified xsi:type="dcterms:W3CDTF">2013-04-12T06:00:49Z</dcterms:modified>
  <cp:revision>40</cp:revision>
  <dc:subject/>
  <dc:title>ТОЛЕРАНТНОСТЬ -ТЕРПИМОСТЬ</dc:title>
</cp:coreProperties>
</file>