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383D-CB7F-455A-AAC9-109EA3E995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939A-0EB4-4C6A-BC23-3A6283DD04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F5E-D0FE-4980-A24E-641D02DCD0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901-B8D4-485B-9F7D-A8C5650699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4A2-A7BF-4D8C-A4A3-6F1B1989BD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8A2B-C345-499B-BD6F-8272C0FD56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5128-60D3-4016-B048-83B4582EA4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A36-3D36-4FDF-8F17-B49ED772DD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8CD-9D2C-4BA9-8018-1F0B6569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698-380A-48E9-94E1-B7DAFDCF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D4C-1B43-4938-96A8-0F314FE6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A0D-763E-4CA0-8D9F-484737BE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F3C-D9E6-4E2C-8A78-F3630B61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080-10BD-4558-9092-5232A63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81A1-51A9-40E2-A9A9-8F40F1D1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932A-EB9A-4466-8BA5-4C1A250D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2D76-174C-4F79-A4DB-F3620403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8E94-FABF-4E88-B3F4-18B4F815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3141-9095-44E5-97D1-0982ECD1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151-7A3F-4C5B-8F58-D587CEE5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0374-6610-400A-B4F1-08D4E76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EC4-EC5B-4FD8-9ED7-A8E3600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C687-4849-48E2-9CB8-EDC9276F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4CF-7F87-45D8-985D-3062D537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441-9F61-4B57-9FBF-1771F0F7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114A-B1AF-4539-B8A7-15CF0D47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F2BDB-2599-40B4-87C1-B3CBA8D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3E166-112B-4786-9EC2-0380F26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7CBE-B057-4E22-8835-62004428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88C1D-1B37-4761-8688-0B1AE24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CD40-6A05-48F7-96B5-B40E49E4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9E8E-C8B6-4B3C-B1D7-208D40C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4F59-E590-40CD-8439-5970DCB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2914-3BCC-41E9-B235-E01F1B9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FE445-1DD8-4140-949B-487A94F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A7DA-D15C-457E-AA6D-AB6368D3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BE9E-6DBE-434E-8567-E441B43C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0F12-0E4A-4996-9EAC-41C3CB92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DC41-6B35-4636-9D1D-A2BBD60D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0859-0184-42DD-B89D-4EBF4C54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82CA8-32C0-49C4-8BE6-14D39DA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26A-8444-46E3-AE0E-A0EE5FE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3CC5-AA09-44D3-ABE9-D8D3A8BF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F168E-6CA3-4880-A011-A65AA995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0CA2-21A2-4046-9B7C-414190CA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CE56-3F8F-4D0C-BCD2-006CBD3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F0FD-AA68-4926-A1B2-89F7BF47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4059-3CE4-4A67-8893-D9B803E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833D-BD65-4E5A-AACB-D6BCF5B8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70A45-FB15-4A03-BEDB-B746A146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22D1-3857-4EF0-90FA-6A90EEF2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769CA-289D-4558-A1B0-58AC9B14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F1E-7BF6-453D-B778-B1CFD945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BA71-8B52-45BB-8F39-FCEB76F3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95FA-0102-422B-82BF-08A80DC3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B91C1-6C5C-47CF-9899-3F509F1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F1A4-A7DC-46C4-A170-9996084E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392E-AE58-4334-91EB-1165E5A3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83AF-3E00-400C-862D-D758B84C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F9CB-550D-4DCF-9658-FD09E4AF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3CD15-6EA5-4DC9-B58A-990CFE17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02C9-F2F9-4AD7-B145-04ED62B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7481-5ACC-4E3B-8BC7-F0C37193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85C-0826-4B44-88DA-AB6B20E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BB3D-4A10-47A5-8112-F14A4744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B68-F5DB-4843-A861-CF95D8A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F2B8-7F88-4BAA-B3A7-7C9BE1E7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CAF-B0EA-4615-8037-447D83D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F35-B59C-4ED3-A470-D0F2D19E58E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8536-F82D-4D69-9BE0-09C1B5E91F9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C228-6D3E-4A8D-B134-584CF0C105B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EE9-67E8-42C9-9ED3-53A3737F775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5F96-4783-4A6B-9A68-1993196A846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16 ноября -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Verdana"/>
              </a:rPr>
              <a:t>Международный день толерантност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1"/>
          <p:cNvSpPr/>
          <p:nvPr/>
        </p:nvSpPr>
        <p:spPr>
          <a:xfrm rot="238200">
            <a:off x="3097080" y="1695600"/>
            <a:ext cx="3664080" cy="32526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леран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"/>
          <p:cNvSpPr/>
          <p:nvPr/>
        </p:nvSpPr>
        <p:spPr>
          <a:xfrm flipH="1">
            <a:off x="4928760" y="1000080"/>
            <a:ext cx="1800" cy="928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7"/>
          <p:cNvSpPr/>
          <p:nvPr/>
        </p:nvSpPr>
        <p:spPr>
          <a:xfrm>
            <a:off x="6143760" y="3429000"/>
            <a:ext cx="114300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2"/>
          <p:cNvSpPr/>
          <p:nvPr/>
        </p:nvSpPr>
        <p:spPr>
          <a:xfrm>
            <a:off x="4815720" y="4944960"/>
            <a:ext cx="34920" cy="6271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7"/>
          <p:cNvSpPr/>
          <p:nvPr/>
        </p:nvSpPr>
        <p:spPr>
          <a:xfrm flipH="1" flipV="1">
            <a:off x="2285640" y="3429000"/>
            <a:ext cx="150012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2"/>
          <p:cNvSpPr/>
          <p:nvPr/>
        </p:nvSpPr>
        <p:spPr>
          <a:xfrm flipV="1">
            <a:off x="6300720" y="1499760"/>
            <a:ext cx="628560" cy="763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25"/>
          <p:cNvSpPr/>
          <p:nvPr/>
        </p:nvSpPr>
        <p:spPr>
          <a:xfrm flipH="1" flipV="1">
            <a:off x="2928960" y="1499760"/>
            <a:ext cx="1285920" cy="1071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9"/>
          <p:cNvSpPr/>
          <p:nvPr/>
        </p:nvSpPr>
        <p:spPr>
          <a:xfrm flipH="1">
            <a:off x="3357720" y="4500000"/>
            <a:ext cx="642960" cy="5713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32"/>
          <p:cNvSpPr/>
          <p:nvPr/>
        </p:nvSpPr>
        <p:spPr>
          <a:xfrm>
            <a:off x="5929200" y="4500720"/>
            <a:ext cx="928800" cy="857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44"/>
          <p:cNvSpPr/>
          <p:nvPr/>
        </p:nvSpPr>
        <p:spPr>
          <a:xfrm>
            <a:off x="4500720" y="3643200"/>
            <a:ext cx="914400" cy="92880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50"/>
          <p:cNvSpPr/>
          <p:nvPr/>
        </p:nvSpPr>
        <p:spPr>
          <a:xfrm>
            <a:off x="4071960" y="642960"/>
            <a:ext cx="1785960" cy="9856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мириться с чужим мне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1"/>
          <p:cNvSpPr/>
          <p:nvPr/>
        </p:nvSpPr>
        <p:spPr>
          <a:xfrm>
            <a:off x="6643800" y="714240"/>
            <a:ext cx="2071440" cy="9288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Терпимость к другим верования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2"/>
          <p:cNvSpPr/>
          <p:nvPr/>
        </p:nvSpPr>
        <p:spPr>
          <a:xfrm>
            <a:off x="6929280" y="2928960"/>
            <a:ext cx="1857600" cy="10717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а быть ин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53"/>
          <p:cNvSpPr/>
          <p:nvPr/>
        </p:nvSpPr>
        <p:spPr>
          <a:xfrm>
            <a:off x="714240" y="714240"/>
            <a:ext cx="2286000" cy="13575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онимать и принимать человека таким , каков он е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54"/>
          <p:cNvSpPr/>
          <p:nvPr/>
        </p:nvSpPr>
        <p:spPr>
          <a:xfrm>
            <a:off x="357120" y="3000240"/>
            <a:ext cx="19144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меть проща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55"/>
          <p:cNvSpPr/>
          <p:nvPr/>
        </p:nvSpPr>
        <p:spPr>
          <a:xfrm>
            <a:off x="1071720" y="4786200"/>
            <a:ext cx="2342880" cy="9144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Проявлять сострадание, милосерд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авая фигурная скобка 56"/>
          <p:cNvSpPr/>
          <p:nvPr/>
        </p:nvSpPr>
        <p:spPr>
          <a:xfrm>
            <a:off x="6929280" y="5214960"/>
            <a:ext cx="155880" cy="914400"/>
          </a:xfrm>
          <a:custGeom>
            <a:avLst/>
            <a:gdLst>
              <a:gd name="textAreaLeft" fmla="*/ 0 w 155880"/>
              <a:gd name="textAreaRight" fmla="*/ 56160 w 1558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57"/>
          <p:cNvSpPr/>
          <p:nvPr/>
        </p:nvSpPr>
        <p:spPr>
          <a:xfrm>
            <a:off x="6643800" y="5000760"/>
            <a:ext cx="1928880" cy="10573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прав други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58"/>
          <p:cNvSpPr/>
          <p:nvPr/>
        </p:nvSpPr>
        <p:spPr>
          <a:xfrm>
            <a:off x="3857760" y="5572080"/>
            <a:ext cx="1985760" cy="8571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</a:rPr>
              <a:t>уважение человеческого достоин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8d3e"/>
                </a:solidFill>
                <a:latin typeface="Verdana"/>
              </a:rPr>
              <a:t>Пропущенные слова : дружба, уважение, расположение, человеколюбие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, чтобы нас уважали, то мы также должны иметь _______ к другим людям.( Кант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крет успеха в обществе прост: нужна сердечность и _______ к другим.(Эмерсо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мы хотим быть любимы, то надо также проявить _________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ее, что есть в жизни человека,- это его __________ с другими людьми.(Кан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Паломничеств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м объектом паломничества христиан является _______ в городе 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мусульман чрезвычайно важно паломничество в город 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удеи главной своей святыней считают город _____, храм, который получил название 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ломничества в буддизме ( _____) начались с поклонения останкам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8d3e"/>
                </a:solidFill>
                <a:latin typeface="Verdana"/>
              </a:rPr>
              <a:t>Религиозные праздники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иудаизма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христиан - _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ый праздник мусульман- __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ый важный праздник буддистов- ________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__________ , уметь _________   с существованием чего-либо, кого-либо, быть ___________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471456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8d3e"/>
                </a:solidFill>
                <a:latin typeface="Verdana"/>
              </a:rPr>
              <a:t>Выдержка, примирение, великодушие, снисходительность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28760" y="571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ерантность (Терпимост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 с помощью трех имен прилагательных объясните, каким должен быть человек, обладающий этим качеством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нисходительный, великодушный, милосерд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двух глаголов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щает, принима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В виде предложения объясните, каким должен быть человек, обладающий этим качеством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олерантность- это свойство характера человека, позволяющее ему быть выдержанным , уметь  мириться  с существованием чего-либо, кого-либо, быть снисходительным к чему-либо, кому-либ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С помощью ключевого слова  в виде имени существительного сделайте вывод : что такое толерант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4:54:28Z</dcterms:created>
  <dc:creator>admin</dc:creator>
  <dc:description/>
  <dc:language>en-US</dc:language>
  <cp:lastModifiedBy>Людмила</cp:lastModifiedBy>
  <dcterms:modified xsi:type="dcterms:W3CDTF">2013-04-12T06:00:49Z</dcterms:modified>
  <cp:revision>40</cp:revision>
  <dc:subject/>
  <dc:title>ТОЛЕРАНТНОСТЬ -ТЕРПИМОСТЬ</dc:title>
</cp:coreProperties>
</file>