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D1B-85AE-4531-AF81-EADE21E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6D1-1238-4663-A820-7C9F54E1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5BC-051B-431C-80F3-445F8568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8DE-3F8F-4121-A2CD-D7A5E14D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CFD-211E-475B-AF19-661D41CE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71C0-8A4E-41DC-952A-69BF1BDE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2B51-9612-48BE-8D24-DB342D3F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70F-8FD4-4D31-ACEB-FF9CC67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976B-BF74-4348-9201-ED913FE4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D225-0F8F-45A9-802F-9C5E24DB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86F4-763C-4AB5-83FC-245B75F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F68-9AAC-4B53-AD1E-A4BC3CDB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5500-52A7-4EBE-B5FB-4F93A88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4004-BCBF-4B13-ACAC-69518F9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D4DF-6B8E-4F28-BDE3-C984D36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8763-3813-4E27-A4F7-32B5C39E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9C3F-3A2B-45DE-A658-441BCF5C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E0BE-EFFC-444A-8E61-5A7C41BD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A72E-4AC2-4C51-8D41-3A262E4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B40B-3AF4-475F-9A93-EF67B15C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47B0-E095-41C0-8150-9FE16C0B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AB99-0E69-43B3-851C-8E7A305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F14-97FD-4D07-832F-C8ACAB74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D8C7-32D1-4E98-8839-AD7BA1BE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DC3E-5BCE-426B-86A5-4899EA9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B800-CC03-454E-8F04-9C01BE84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9469-5108-43C5-851F-5B8997A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4B46-9EFD-40F8-A7B8-6AD216F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0412-0849-4F50-AD9B-72D80A69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3023-3FC6-4010-9748-E5286C06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AF529-3510-4039-9DBC-B5E96D2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2739-C835-4984-B59C-C2AE86FE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98BA-6B1E-40E8-A82C-0357C521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D80-A134-47B8-83E9-97256808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F99D9-09D8-4495-AA84-668B6987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1DC0-D828-4412-865E-0B819B1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78C2-F459-4B0C-BE15-F9DACF1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04C81-F97F-4CB3-835F-6FC5D5E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9C1E-4FCF-48B8-ADD2-DA44ECF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2ACD-030A-4F13-9AAD-04E4CF5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6DFB-65E4-465C-B39B-0AF4D34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309F-6D93-4525-AB88-5B25A4F3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47C89-DD97-4BDB-97A4-55E4366F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3B56-FA8B-48B0-A7ED-FA6ACEBA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8CF-4630-485F-8928-964B669A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8FB9-6284-430D-BC63-5BD6C60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38E0-C0D3-4794-AB4F-11A78E6D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BC381-ECF6-4F9F-B521-0B3444BD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D3935-D4EF-4BE4-A6FD-B5344696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7CC8-19D0-484E-A0C6-D3254D0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3829-9A5B-4B6E-9397-A4A9557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AEE8-C8EF-4918-8889-FDD3170E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1250-2CBC-4071-8A79-AD2F9BB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2EDF-9B43-4A47-839B-2181D0E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CACA2-C66D-4C67-ACC3-E46FD357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06E-AAF9-411A-9F6F-B61BD39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58A8-FD81-4117-A2B0-CA513809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9E86-6BA2-40CC-A644-AE6F1242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8783-C844-4B7A-A15F-641AA48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6E4B-D56D-415D-87B1-38BA7ADA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CD85-3B06-4A53-9545-CB49EC44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A583D-1D78-4ACC-83F1-01A3F53F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C2C5-50F8-4460-9F74-0C97B982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0E629-2F8F-40A4-8FAE-D0F09E5C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9E8F-54D6-424F-B5F9-8A55CDF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B13F3-D4BB-47B8-BE06-5D7986D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F1E-8CA3-47F6-9FCB-2104C7A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092D-86A4-4E85-9E3D-FE0A579B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BB4E-EC3B-4F77-9C67-D28932FF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B8A62-B504-487D-ADB6-A666897A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F097E-BBE7-484C-8B57-925D4721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C9F9-AF9E-4150-9660-0DE83F5E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37AF9-31C8-425B-8993-235AA55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5A53C-3739-455A-9DD6-3BE795BC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F0823-1414-4572-B2D5-98A6B973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91EB-DDFC-4729-8AD7-097ABE5E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224B-2006-408F-8453-795174E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908-81F2-4EBA-86FA-3A7EC83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D191D-238D-40FD-A882-5C7826BF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AC766-2D6E-473C-AA46-D5F4D8B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A447D-E74B-42F4-8B5D-E9938E9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AFD7-487C-445D-A75A-5E6641D9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C4EA-B06E-4C32-93BF-F99530C4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AE7-D4F7-41BB-944B-E310F09C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3592-D68F-43BC-AC25-AFDBBCD00DA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D596-2397-4F57-9F3F-5414BBA3CA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EB9C-3BD2-4B2D-9CA9-8442C872A4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B01F-4EDB-464E-991C-6510D25DB4D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541-361C-457B-9970-2F318874A68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636C-EC47-461E-96E6-76B5034D0D5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CD90-DC8B-4DF0-889A-75C0A6AB0E0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1664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56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Относись к людям так, как бы ты хотел, чтобы относились к теб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«Если  тебе  плохо,  найди  того,  кому  еще  хуже  и  помоги ему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Поставь себя на место того, кого ты осуждаешь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все терпимые и терпеливы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добрые, любящ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уважающие, понимающие, поддерживающие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окружающие друг друга забот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внимательные, отзывчивые, интересующиеся планами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успешные, независимые, счастливые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Содержимое 2"/>
          <p:cNvSpPr/>
          <p:nvPr/>
        </p:nvSpPr>
        <p:spPr>
          <a:xfrm>
            <a:off x="539640" y="163980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хочу больше внутренней мёртвост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поскольку всесилен Ты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чёрств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сцели от глухой слепоты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Я не вижу огромной важности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бесценности важных минут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праздн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позволь ей меня обмануть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Попрошу с неотступною твёрдостью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вечной Твоей любв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горд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створённой в моей кров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Жизнь так мало во мне оставила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Доброты и тепла для людей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дьявола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страшной жертвы Тво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.mp4" descr=""/>
          <p:cNvPicPr/>
          <p:nvPr/>
        </p:nvPicPr>
        <p:blipFill>
          <a:blip r:embed="rId1"/>
          <a:stretch/>
        </p:blipFill>
        <p:spPr>
          <a:xfrm>
            <a:off x="111240" y="1628640"/>
            <a:ext cx="8926560" cy="5021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7" descr=""/>
          <p:cNvPicPr/>
          <p:nvPr/>
        </p:nvPicPr>
        <p:blipFill>
          <a:blip r:embed="rId2"/>
          <a:stretch/>
        </p:blipFill>
        <p:spPr>
          <a:xfrm>
            <a:off x="244440" y="55440"/>
            <a:ext cx="890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78000" y="2273400"/>
            <a:ext cx="84420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Молодые строптивы без послушания и уважения к старшим. Истину отбросили, обычаев не признают. Никто их не понимает, и они не хотят, чтобы их понимали. Несут миру погибель и станут последним его пределом» (надпись на гробнице фараона, ок. 3500 лет до н.э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К старости недостатки ума становятся всё заметнее, как и недостатки внешности» (Ф.Ларошфуко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Нет ничего безобразнее старика, который не имеет других доказательств пользы его продолжительной жизни, кроме возраста» (Сене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122400"/>
            <a:ext cx="8242200" cy="1225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ia</a:t>
            </a: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испанский) – способность признавать отличные от своих собственных идеи и мне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tolerance 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e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нглийский) – готовность быть терпимым, снисходительность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rbel"/>
              </a:rPr>
              <a:t>kuan rong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asamul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рабский) – прощение, снисходительность, мягкость, милосердие, сострадание, терпение, расположенность к други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терпимость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8"/>
          <p:cNvSpPr/>
          <p:nvPr/>
        </p:nvSpPr>
        <p:spPr>
          <a:xfrm>
            <a:off x="755640" y="1341360"/>
            <a:ext cx="230364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рпимо относиться к чужим мнениям, поведен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Овал 9"/>
          <p:cNvSpPr/>
          <p:nvPr/>
        </p:nvSpPr>
        <p:spPr>
          <a:xfrm>
            <a:off x="3708360" y="692280"/>
            <a:ext cx="2158920" cy="14414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Овал 10"/>
          <p:cNvSpPr/>
          <p:nvPr/>
        </p:nvSpPr>
        <p:spPr>
          <a:xfrm>
            <a:off x="6372360" y="1413000"/>
            <a:ext cx="223200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Овал 11"/>
          <p:cNvSpPr/>
          <p:nvPr/>
        </p:nvSpPr>
        <p:spPr>
          <a:xfrm>
            <a:off x="539640" y="3141720"/>
            <a:ext cx="223200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страд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Овал 12"/>
          <p:cNvSpPr/>
          <p:nvPr/>
        </p:nvSpPr>
        <p:spPr>
          <a:xfrm>
            <a:off x="6732720" y="3284640"/>
            <a:ext cx="216036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человеческоедостоин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Овал 13"/>
          <p:cNvSpPr/>
          <p:nvPr/>
        </p:nvSpPr>
        <p:spPr>
          <a:xfrm>
            <a:off x="971640" y="4869000"/>
            <a:ext cx="2232000" cy="151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друг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Овал 14"/>
          <p:cNvSpPr/>
          <p:nvPr/>
        </p:nvSpPr>
        <p:spPr>
          <a:xfrm>
            <a:off x="3708360" y="5229360"/>
            <a:ext cx="2232000" cy="1490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нять другого таким, какой он е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Овал 15"/>
          <p:cNvSpPr/>
          <p:nvPr/>
        </p:nvSpPr>
        <p:spPr>
          <a:xfrm>
            <a:off x="6300720" y="5013360"/>
            <a:ext cx="2303640" cy="1440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милосердны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19"/>
          <p:cNvSpPr/>
          <p:nvPr/>
        </p:nvSpPr>
        <p:spPr>
          <a:xfrm>
            <a:off x="3276720" y="2708280"/>
            <a:ext cx="3095640" cy="19954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олер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ая соединительная линия 21"/>
          <p:cNvSpPr/>
          <p:nvPr/>
        </p:nvSpPr>
        <p:spPr>
          <a:xfrm flipH="1">
            <a:off x="5724000" y="2421000"/>
            <a:ext cx="792360" cy="7920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рямая соединительная линия 25"/>
          <p:cNvSpPr/>
          <p:nvPr/>
        </p:nvSpPr>
        <p:spPr>
          <a:xfrm flipV="1">
            <a:off x="4932360" y="3406680"/>
            <a:ext cx="770040" cy="3096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8"/>
          <p:cNvSpPr/>
          <p:nvPr/>
        </p:nvSpPr>
        <p:spPr>
          <a:xfrm>
            <a:off x="4823640" y="2708280"/>
            <a:ext cx="878040" cy="9144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 flipH="1" flipV="1">
            <a:off x="4787640" y="2133720"/>
            <a:ext cx="36360" cy="574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40"/>
          <p:cNvSpPr/>
          <p:nvPr/>
        </p:nvSpPr>
        <p:spPr>
          <a:xfrm>
            <a:off x="2916360" y="2492280"/>
            <a:ext cx="1706400" cy="14907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45"/>
          <p:cNvSpPr/>
          <p:nvPr/>
        </p:nvSpPr>
        <p:spPr>
          <a:xfrm>
            <a:off x="6012000" y="3860640"/>
            <a:ext cx="720720" cy="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52"/>
          <p:cNvSpPr/>
          <p:nvPr/>
        </p:nvSpPr>
        <p:spPr>
          <a:xfrm flipV="1">
            <a:off x="2556000" y="3715920"/>
            <a:ext cx="863640" cy="730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56"/>
          <p:cNvSpPr/>
          <p:nvPr/>
        </p:nvSpPr>
        <p:spPr>
          <a:xfrm>
            <a:off x="4788000" y="4653000"/>
            <a:ext cx="0" cy="5763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66"/>
          <p:cNvSpPr/>
          <p:nvPr/>
        </p:nvSpPr>
        <p:spPr>
          <a:xfrm flipV="1">
            <a:off x="2843280" y="4411440"/>
            <a:ext cx="885600" cy="817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70"/>
          <p:cNvSpPr/>
          <p:nvPr/>
        </p:nvSpPr>
        <p:spPr>
          <a:xfrm>
            <a:off x="5795280" y="4292640"/>
            <a:ext cx="841320" cy="9316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9283680" cy="153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4105440" cy="499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rcRect l="0" t="0" r="28092" b="0"/>
          <a:stretch/>
        </p:blipFill>
        <p:spPr>
          <a:xfrm>
            <a:off x="435600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rcRect l="11765" t="0" r="3257" b="0"/>
          <a:stretch/>
        </p:blipFill>
        <p:spPr>
          <a:xfrm>
            <a:off x="4284720" y="1628640"/>
            <a:ext cx="4680000" cy="4464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rcRect l="13096" t="0" r="17859" b="0"/>
          <a:stretch/>
        </p:blipFill>
        <p:spPr>
          <a:xfrm>
            <a:off x="8892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4"/>
          <a:srcRect l="11765" t="0" r="3257" b="0"/>
          <a:stretch/>
        </p:blipFill>
        <p:spPr>
          <a:xfrm>
            <a:off x="435600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31840" y="-30240"/>
            <a:ext cx="8845560" cy="1425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Что является причиной конфлик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дные привыч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ньг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ла по хозяйств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чёба, рабо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ношения между членами семь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верять друг друг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 повышать голос друг на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слышать и слушат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дать совет, выслушать совет друго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поддержать в трудную минут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араться понять друг друга в любой ситу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43:59Z</dcterms:created>
  <dc:creator>wEDOK</dc:creator>
  <dc:description/>
  <dc:language>en-US</dc:language>
  <cp:lastModifiedBy>wEDOK</cp:lastModifiedBy>
  <dcterms:modified xsi:type="dcterms:W3CDTF">2011-12-18T20:41:28Z</dcterms:modified>
  <cp:revision>48</cp:revision>
  <dc:subject/>
  <dc:title>Классный час</dc:title>
</cp:coreProperties>
</file>