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6CF2-8D70-4297-B6D9-3A82F5B675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BC86-29B3-40E1-AF10-52B267BF92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8DEA-18E3-464A-B23A-4B2D578822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0A37-46A6-43C3-A63C-070FB4EBC4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B6C7-AC15-4F1C-B62C-D30EB3D3B9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90F3-DE9A-42A2-ADB0-3A77642492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EB29-C958-4C6C-862F-DA3134D797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C047-0AD0-43A8-8555-054050BA01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68C-10AC-40D2-B845-EB25C490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8DC-C43E-468E-88E4-F380DE14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6B8-2426-4AF1-AD79-4C1FD311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387-8F59-4789-ABB1-9DCD2F0B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AFB9-119B-405A-8077-F7A9EF1D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FC51-816B-47EA-8305-013063A0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F45F-B0E7-4CDD-A363-4C3E9107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056C-44D9-4F01-876A-7325D270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21E3-CCD6-4607-B83C-F4DB3D6F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4E55-C805-4BC7-88B8-5320E2E2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3FBA-8E65-4065-AFF7-EE6B8EB8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07D-8514-415A-B0EC-B143CD18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3ED9-1C14-4C0C-87E9-A3F72BE1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ABA1-9F16-4842-B20F-46DAF4BD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AFD7-7187-4F85-85AC-58580431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03D6-B268-4B7C-97EA-65D4C4E1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B2DA-E177-4CC9-9095-D0002E6A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A262-F95C-4037-AB19-D3E6B725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0C6E-B03E-4EE8-A16C-8D43E1E5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745B-6B95-4D03-8CCB-993495D6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DF13-3228-442F-8C30-7B735F4F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CFC1-F31B-49AD-B3CF-C3988583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647-EBB6-4CB5-94F1-EE753853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0222C-3B81-48D7-B8D4-77052889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7B30-D6DF-4C5B-8C48-900E0647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42DD-4997-46FD-8CAF-51C60D96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4781-1C47-4575-8A3B-F905AC4A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870E0-1A83-4417-B70B-33A24500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DEAF5-32C5-409C-B3F6-38BAF723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06ED-13D6-4DDA-9FF5-BB1C800F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9DC37-4C89-4B9B-BF70-F38D1208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88BBC-F090-4AA6-B503-E92A9D73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A9C21-EC2C-4573-8AB2-1E8F8727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E38-9625-46FD-A7B6-1910B684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15686-9CA2-4697-87EC-BE3B7EE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0D763-5B09-403C-A7F7-9562CCA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8531-48B7-4EEC-98AD-8FE947E5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DFAC-AC50-4FFF-9C9F-2CA0D04F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F450A-0807-4AFF-9834-F00EB494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2FE6-C141-45CD-BDB5-C8096B46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9801-EAA3-480B-91FA-DC5503ED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F14E-0F4A-4887-9F46-04BAB71D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903E3-2CB4-4CD4-8822-85A07629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1CFD2-7A03-4CE4-8A1D-FB0913DB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5B0-73D4-4991-ACAA-FCABA06F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D26C8-07BE-4ACD-B58A-346260A6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822BF-848A-4A23-A2CC-F2F6209C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0DEA6-6235-4725-9966-387EB8A7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FCE9-4286-4344-95CE-7C78EE9A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AAC07-27A9-4B42-AF88-971E11D6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FD936-DC99-475F-9A43-464960B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954E3-E756-4465-8902-209EEBF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727B-C162-4E22-BB73-EFB79A6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C388-57E3-4E9C-A048-895EDE4C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350EE-C3C7-4A93-98CE-32508B7A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C69-274F-436B-9DCD-CAD4B919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36480-C2E8-42BF-8F84-31E90B95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14A-3571-451C-8FF7-CE3D080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AD3-B4EC-4F6F-A40E-07F10723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907-B6FA-45FC-BAF2-6D83B3E1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86CD-1597-444A-B0D1-2C375ED6599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2998-2B69-4309-8692-5FFEF23C0F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9E86-0050-46E4-B70B-46EAB10CDA9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FCAB-639B-4E73-BFA3-AF493009D66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7E47-08D7-4C03-9F32-38E65805751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16 ноября -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57160" y="36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Verdana"/>
              </a:rPr>
              <a:t>Международный день толерантност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1"/>
          <p:cNvSpPr/>
          <p:nvPr/>
        </p:nvSpPr>
        <p:spPr>
          <a:xfrm rot="238200">
            <a:off x="3097080" y="1695600"/>
            <a:ext cx="3664080" cy="32526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леран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3"/>
          <p:cNvSpPr/>
          <p:nvPr/>
        </p:nvSpPr>
        <p:spPr>
          <a:xfrm flipH="1">
            <a:off x="4928760" y="1000080"/>
            <a:ext cx="1800" cy="928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6143760" y="3429000"/>
            <a:ext cx="114300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2"/>
          <p:cNvSpPr/>
          <p:nvPr/>
        </p:nvSpPr>
        <p:spPr>
          <a:xfrm>
            <a:off x="4815720" y="4944960"/>
            <a:ext cx="34920" cy="6271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7"/>
          <p:cNvSpPr/>
          <p:nvPr/>
        </p:nvSpPr>
        <p:spPr>
          <a:xfrm flipH="1" flipV="1">
            <a:off x="2285640" y="3429000"/>
            <a:ext cx="150012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2"/>
          <p:cNvSpPr/>
          <p:nvPr/>
        </p:nvSpPr>
        <p:spPr>
          <a:xfrm flipV="1">
            <a:off x="6300720" y="1499760"/>
            <a:ext cx="628560" cy="7635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5"/>
          <p:cNvSpPr/>
          <p:nvPr/>
        </p:nvSpPr>
        <p:spPr>
          <a:xfrm flipH="1" flipV="1">
            <a:off x="2928960" y="1499760"/>
            <a:ext cx="1285920" cy="10717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9"/>
          <p:cNvSpPr/>
          <p:nvPr/>
        </p:nvSpPr>
        <p:spPr>
          <a:xfrm flipH="1">
            <a:off x="3357720" y="4500000"/>
            <a:ext cx="642960" cy="5713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2"/>
          <p:cNvSpPr/>
          <p:nvPr/>
        </p:nvSpPr>
        <p:spPr>
          <a:xfrm>
            <a:off x="5929200" y="4500720"/>
            <a:ext cx="928800" cy="8571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лыбающееся лицо 44"/>
          <p:cNvSpPr/>
          <p:nvPr/>
        </p:nvSpPr>
        <p:spPr>
          <a:xfrm>
            <a:off x="4500720" y="3643200"/>
            <a:ext cx="914400" cy="928800"/>
          </a:xfrm>
          <a:prstGeom prst="smileyFace">
            <a:avLst>
              <a:gd name="adj" fmla="val 928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50"/>
          <p:cNvSpPr/>
          <p:nvPr/>
        </p:nvSpPr>
        <p:spPr>
          <a:xfrm>
            <a:off x="4071960" y="642960"/>
            <a:ext cx="1785960" cy="98568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мириться с чужим мнени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51"/>
          <p:cNvSpPr/>
          <p:nvPr/>
        </p:nvSpPr>
        <p:spPr>
          <a:xfrm>
            <a:off x="6643800" y="714240"/>
            <a:ext cx="2071440" cy="9288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Терпимость к другим верования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52"/>
          <p:cNvSpPr/>
          <p:nvPr/>
        </p:nvSpPr>
        <p:spPr>
          <a:xfrm>
            <a:off x="6929280" y="2928960"/>
            <a:ext cx="1857600" cy="10717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а быть ин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53"/>
          <p:cNvSpPr/>
          <p:nvPr/>
        </p:nvSpPr>
        <p:spPr>
          <a:xfrm>
            <a:off x="714240" y="714240"/>
            <a:ext cx="2286000" cy="13575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онимать и принимать человека таким , каков он е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54"/>
          <p:cNvSpPr/>
          <p:nvPr/>
        </p:nvSpPr>
        <p:spPr>
          <a:xfrm>
            <a:off x="357120" y="3000240"/>
            <a:ext cx="19144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роща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55"/>
          <p:cNvSpPr/>
          <p:nvPr/>
        </p:nvSpPr>
        <p:spPr>
          <a:xfrm>
            <a:off x="1071720" y="4786200"/>
            <a:ext cx="23428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Проявлять сострадание, милосерд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авая фигурная скобка 56"/>
          <p:cNvSpPr/>
          <p:nvPr/>
        </p:nvSpPr>
        <p:spPr>
          <a:xfrm>
            <a:off x="6929280" y="521496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7"/>
          <p:cNvSpPr/>
          <p:nvPr/>
        </p:nvSpPr>
        <p:spPr>
          <a:xfrm>
            <a:off x="6643800" y="5000760"/>
            <a:ext cx="1928880" cy="10573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 други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58"/>
          <p:cNvSpPr/>
          <p:nvPr/>
        </p:nvSpPr>
        <p:spPr>
          <a:xfrm>
            <a:off x="3857760" y="5572080"/>
            <a:ext cx="198576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человеческого досто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8d3e"/>
                </a:solidFill>
                <a:latin typeface="Verdana"/>
              </a:rPr>
              <a:t>Пропущенные слова : дружба, уважение, расположение, человеколюбие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, чтобы нас уважали, то мы также должны иметь _______ к другим людям.( Кант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крет успеха в обществе прост: нужна сердечность и _______ к другим.(Эмерсо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 быть любимы, то надо также проявить _________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ее, что есть в жизни человека,- это его __________ с другими людьми.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Паломничеств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м объектом паломничества христиан является _______ в городе 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мусульман чрезвычайно важно паломничество в город 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удеи главной своей святыней считают город _____, храм, который получил название 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ломничества в буддизме ( _____) начались с поклонения останкам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Религиозные праздник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иудаизма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христиан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мусульман- 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ый важный праздник буддистов- 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__________ , уметь _________   с существованием чего-либо, кого-либо, быть ___________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8d3e"/>
                </a:solidFill>
                <a:latin typeface="Verdana"/>
              </a:rPr>
              <a:t>Выдержка, примирение, великодушие, снисходительность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нисходительный, великодушный, милосерд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щает, принимае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выдержанным , уметь  мириться  с существованием чего-либо, кого-либо, быть снисходительным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4:54:28Z</dcterms:created>
  <dc:creator>admin</dc:creator>
  <dc:description/>
  <dc:language>en-US</dc:language>
  <cp:lastModifiedBy>Людмила</cp:lastModifiedBy>
  <dcterms:modified xsi:type="dcterms:W3CDTF">2013-04-12T06:00:49Z</dcterms:modified>
  <cp:revision>40</cp:revision>
  <dc:subject/>
  <dc:title>ТОЛЕРАНТНОСТЬ -ТЕРПИМОСТЬ</dc:title>
</cp:coreProperties>
</file>