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5E6-D816-4E3D-9FC6-20B49A04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742A-3CFF-468A-B5D9-ADD1C888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26D-330A-4350-AEB1-201F221D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211A-5093-4666-8781-BE2C61DE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33B5-2159-41D1-BDF6-C0DFF761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5668-DEFA-4C4F-B73A-FBD85EE5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2C46-C122-4666-AFF9-391E2166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5EA-FFD3-46D8-8D84-AC4CAE70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10A-F076-4031-B790-014A63A9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B14C-A509-4F35-B7F4-3E7D4909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FBC-2B03-40AA-BCD6-C6713AF3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008-C4FF-45D7-808E-249B7032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8016-4D66-4919-851C-0B5103E5D4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84872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МОУ «Кировская СОШ»</a:t>
            </a:r>
            <a:br>
              <a:rPr sz="4400"/>
            </a:b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ВОСПИТАНИЕ ТОЛЕРАНТНОСТИ</a:t>
            </a:r>
            <a:br>
              <a:rPr sz="6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 Арестанова Айслу Жанзак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3класс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Вместе лучш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 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диагностика учащихся, классный час Культура мира. Человек среди люд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знакомство с русской национальной культурой, фольклорный праздник «Русские посидел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стория национального костюма (познавательная экскурсия в краеведческий музей), осенние игры и состя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ак встречают Новый год в разных странах (игра-путешествие), новогодний праздник «Свят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ассный час «Мы-- команда одного корабл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аздник «Маслен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итательская конференция по сказкам народов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ассный час «Стремись делать доб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аздник «Я, ты, он, она—вместе дружная семь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4класс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Учимся договариватьс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- диагностика учащихся. Классный час «О правах и обязанностях ребёнка». Знакомство с Конвенцией о правах ребёнка и уставом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психологическая игра «Необитаемы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стр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сихологический тренинг «Научись управлять соб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сс-конференция (с участием родителей) « Однажды в моём класс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Классный час « Шесть шагов разрешения конфлик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встреча с инспектором отдела профилактики правонару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-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Классный час «Учимся договариватьс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- Классный час «Улыбка и смех приятны для все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игровая программа «Час обще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авайте учиться говорить друг другу комплимен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«Я хороший, ты хороший»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Нарисуй себя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Заплети косичк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Все мы разные, но все мы вмест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айничек с кры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рышечка с ши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ишечка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дырочки , дырочка с шишечкой, шишечка с крышечкой, крышечка с чайничко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крышечкой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рышечка с ши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ишечка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дырочки , дырочка с шишечкой, шишечка с крышечкой, крышечка 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Школа является своего рода центром сообщества.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 школе происходит прогнозирование и планирование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удущего, через школу сообщество формулирует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 утверждает собственные перспектив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тти Э. Риэрд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ши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ишечка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дырочки , дырочка с шишечкой, шишечка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 дырочки , дырочка 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ар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  XVIII-XIX в. Франция - Талейран Перигор, князь Беневентск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“tolerantia” (лат.) – терпение – терпимость к иного рода взглядам, нравам, привыч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Воспитание культуры толерантности у детей младшего возраст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усматривает следующие направления обучения толерант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ство детей с принципом уважения человеческого достоинства всех без исключе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Понимание того, что требуется уважать различия между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ние принципа взаимодополняемости как основной черты различий. Ученики должны понять, что различия выступают как дополняющие друг друга эле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ние принципа взаимозависимости как основы совместных действий. Учащихся следует приучать к совместному решению проблем и разделению труда при выполнении заданий—это наглядно показывает, как выигрывает каждый при решении проблем через сотрудни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И как результат—приобщение к культуре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1класс  </a:t>
            </a:r>
            <a:r>
              <a:rPr b="1" lang="ru-RU" sz="4400" spc="-1" strike="noStrike" u="sng">
                <a:solidFill>
                  <a:srgbClr val="0000ff"/>
                </a:solidFill>
                <a:uFillTx/>
                <a:latin typeface="Arial"/>
              </a:rPr>
              <a:t>Я и моя сем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209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–диагностика учащихся( опросник для индивидуального знакомства с воспитанник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день бабушек( в рамках декады пожилых люд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--классный час «Моя сем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--Праздничный концерт «Новогодняя карусель», конкурс на лучшую игрушку Мастерская Деда Мороз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классный час «На кого я хочу быть похожим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конкурс «Сильные, смелые, ловкие, умелые.»(папы и мальч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---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аздник для мам и девочек «Дорогие и любимы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 родительское собрание совместно с учащимися, рассказ о профессиях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игра-марафон «Весёлый поез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2класс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Arial"/>
              </a:rPr>
              <a:t>Ты да я , да мы с тобой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диагностика учащихся Классный час «Ты да я , да мы с тобой», составление декларации прав и обязанностей учеников 2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 –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укцион «Книга рекордов нашего клас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диспут «Легко ли быть настоящим другом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читательская конференция по сказкам Х.К. Андерсена, новогодний бал-маскарад «Новогодний коктей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лассный час «Я и моё им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- праздник «Мама, папа, я—спортивная сем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онкурс «Мисс и мистер клас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ассный час «О дружб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ВН «Наш клас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5:46:09Z</dcterms:created>
  <dc:creator>User</dc:creator>
  <dc:description/>
  <dc:language>en-US</dc:language>
  <cp:lastModifiedBy>User</cp:lastModifiedBy>
  <dcterms:modified xsi:type="dcterms:W3CDTF">2010-11-02T08:35:28Z</dcterms:modified>
  <cp:revision>8</cp:revision>
  <dc:subject/>
  <dc:title>Слайд 1</dc:title>
</cp:coreProperties>
</file>