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1B67-CDF5-427B-B533-68C9B8F178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0347-4A9C-4185-8DFD-CB9472B7EE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5A6A-15E2-41B1-82E8-F039F65811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1EEF-204E-4FBA-8B0C-AAF790BE61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2D71-91D6-4000-BFC8-E66EA80D3B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D672-E463-4BA8-BEFC-38C262754B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00D2-A182-4903-AD39-579E164F79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28D2-D052-447A-BDE0-C4A39AD741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352-5234-4522-B23E-71A282AF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C92-7386-4848-9A44-65E74242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DE1-28AB-4503-84AC-635B853E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4B5-5267-4F23-9BAC-9058BB41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7570-0D30-4C63-BB2B-696141E0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1906-28FE-413D-9828-921E7DA9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A3B9-6B01-416C-9A86-09E42EB4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83FF-B38C-4D4E-8581-674100D9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D31C-DBF4-4413-88BC-AECA1C0F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A33F-D593-44B7-BB19-92FB0420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84E1-D938-4E77-B1B6-D915095F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AF5-69D1-48EE-92A1-79192183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715E-28D4-4A5F-A2F2-F12178A6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E483-B64B-4834-9CF6-F5B4D304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FCDA-1DBB-4929-B662-03579286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F1C9-15FA-4122-898B-841FAF61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59EE-E8C4-473C-864F-795BE4B9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96A8F-BE3A-4C00-BD79-3C76A00A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6263-C020-4ED2-8448-BAAE9B3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6087-40F4-4FBA-A4A8-C677DA69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0731E-96A1-44D5-B2C8-A749F645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A60C-175B-437B-AF1A-FC33CE82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DE5-8020-4A85-8E3B-EC9914C5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2A0C-59B7-4DB3-8500-1A7B9B40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931F0-D8F2-4405-9E25-DB762911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5220-E85E-4965-8E84-68D53123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BBE9-E5C1-4CE5-8C95-7FE8B40F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DC80-954B-4389-9797-67502CD2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D843-53C4-4A26-A810-9434F430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CB0FF-2425-4FDA-9D53-83705DB2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1845-8277-4F69-8891-D6012BF3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1078-4310-4461-A365-98A3C040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827BA-585D-48E5-92F6-E9738C13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D7C-B969-4F61-A202-CCED11C3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35F7A-A1E6-4E7B-9ABA-037C3D56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50A0-8616-4484-A6FA-19CFF9AB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B7B38-5905-4012-B39B-72E841E5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EFF3-E988-422B-B433-010C64F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0A33-23B7-43E2-B963-183D34B8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D73C-1337-49E1-A201-149E7309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09B28-0E3F-4CAD-B037-3F76B114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3A25-70A7-47A8-B4D4-E90B2AD9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544A1-944E-4424-99F1-8073D6DD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4AA51-B006-48B6-A953-80C9D735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099-996E-479A-AF7F-AA09F6EB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88E54-BC9D-4C67-BDAF-CD21CCD4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C32F3-03AF-4EA0-A40E-C11546F5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F2055-4409-4A19-A7A0-0007A34A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162A9-9970-495A-88DA-1437C2E9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5F6C-E023-41D6-A64E-E4AAE2D4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1742E-E154-4407-82E6-4400BCE6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314E8-1C39-4DC0-B6D6-DE496E5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15B12-7C72-41AA-A173-B05AE31A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BFBB6-B907-4947-840F-2BAD8372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4EE52-287F-4D1C-ADB7-F3FCCD8C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6C6-FBCB-4934-8990-B948B420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20125-7689-4C96-B16E-4D4C645E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611-3C77-4170-B9E5-E6E9300B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4E1-67F7-4F1B-9322-617E0E9B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D9B-7879-4645-8DAD-9B44A48E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6EB0-3E50-45A5-A4E9-44DBB4ABD79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CB35-7729-4D6F-AB5F-D0B383E726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C0C2-50DF-4670-AB98-CB7009180CE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9CDE-18FA-4D9E-902E-199A719180A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F132-C350-4643-BD35-6C2522CB531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16 ноября -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57160" y="36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Verdana"/>
              </a:rPr>
              <a:t>Международный день толерантност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1"/>
          <p:cNvSpPr/>
          <p:nvPr/>
        </p:nvSpPr>
        <p:spPr>
          <a:xfrm rot="238200">
            <a:off x="3097080" y="1695600"/>
            <a:ext cx="3664080" cy="32526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леран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3"/>
          <p:cNvSpPr/>
          <p:nvPr/>
        </p:nvSpPr>
        <p:spPr>
          <a:xfrm flipH="1">
            <a:off x="4928760" y="1000080"/>
            <a:ext cx="1800" cy="928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6143760" y="3429000"/>
            <a:ext cx="114300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2"/>
          <p:cNvSpPr/>
          <p:nvPr/>
        </p:nvSpPr>
        <p:spPr>
          <a:xfrm>
            <a:off x="4815720" y="4944960"/>
            <a:ext cx="34920" cy="6271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7"/>
          <p:cNvSpPr/>
          <p:nvPr/>
        </p:nvSpPr>
        <p:spPr>
          <a:xfrm flipH="1" flipV="1">
            <a:off x="2285640" y="3429000"/>
            <a:ext cx="150012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2"/>
          <p:cNvSpPr/>
          <p:nvPr/>
        </p:nvSpPr>
        <p:spPr>
          <a:xfrm flipV="1">
            <a:off x="6300720" y="1499760"/>
            <a:ext cx="628560" cy="7635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5"/>
          <p:cNvSpPr/>
          <p:nvPr/>
        </p:nvSpPr>
        <p:spPr>
          <a:xfrm flipH="1" flipV="1">
            <a:off x="2928960" y="1499760"/>
            <a:ext cx="1285920" cy="10717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9"/>
          <p:cNvSpPr/>
          <p:nvPr/>
        </p:nvSpPr>
        <p:spPr>
          <a:xfrm flipH="1">
            <a:off x="3357720" y="4500000"/>
            <a:ext cx="642960" cy="5713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2"/>
          <p:cNvSpPr/>
          <p:nvPr/>
        </p:nvSpPr>
        <p:spPr>
          <a:xfrm>
            <a:off x="5929200" y="4500720"/>
            <a:ext cx="928800" cy="8571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лыбающееся лицо 44"/>
          <p:cNvSpPr/>
          <p:nvPr/>
        </p:nvSpPr>
        <p:spPr>
          <a:xfrm>
            <a:off x="4500720" y="3643200"/>
            <a:ext cx="914400" cy="928800"/>
          </a:xfrm>
          <a:prstGeom prst="smileyFace">
            <a:avLst>
              <a:gd name="adj" fmla="val 928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50"/>
          <p:cNvSpPr/>
          <p:nvPr/>
        </p:nvSpPr>
        <p:spPr>
          <a:xfrm>
            <a:off x="4071960" y="642960"/>
            <a:ext cx="1785960" cy="98568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мириться с чужим мнени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51"/>
          <p:cNvSpPr/>
          <p:nvPr/>
        </p:nvSpPr>
        <p:spPr>
          <a:xfrm>
            <a:off x="6643800" y="714240"/>
            <a:ext cx="2071440" cy="9288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Терпимость к другим верования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52"/>
          <p:cNvSpPr/>
          <p:nvPr/>
        </p:nvSpPr>
        <p:spPr>
          <a:xfrm>
            <a:off x="6929280" y="2928960"/>
            <a:ext cx="1857600" cy="10717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а быть ин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53"/>
          <p:cNvSpPr/>
          <p:nvPr/>
        </p:nvSpPr>
        <p:spPr>
          <a:xfrm>
            <a:off x="714240" y="714240"/>
            <a:ext cx="2286000" cy="13575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онимать и принимать человека таким , каков он е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54"/>
          <p:cNvSpPr/>
          <p:nvPr/>
        </p:nvSpPr>
        <p:spPr>
          <a:xfrm>
            <a:off x="357120" y="3000240"/>
            <a:ext cx="19144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роща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55"/>
          <p:cNvSpPr/>
          <p:nvPr/>
        </p:nvSpPr>
        <p:spPr>
          <a:xfrm>
            <a:off x="1071720" y="4786200"/>
            <a:ext cx="23428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Проявлять сострадание, милосерд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авая фигурная скобка 56"/>
          <p:cNvSpPr/>
          <p:nvPr/>
        </p:nvSpPr>
        <p:spPr>
          <a:xfrm>
            <a:off x="6929280" y="521496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7"/>
          <p:cNvSpPr/>
          <p:nvPr/>
        </p:nvSpPr>
        <p:spPr>
          <a:xfrm>
            <a:off x="6643800" y="5000760"/>
            <a:ext cx="1928880" cy="10573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 други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58"/>
          <p:cNvSpPr/>
          <p:nvPr/>
        </p:nvSpPr>
        <p:spPr>
          <a:xfrm>
            <a:off x="3857760" y="5572080"/>
            <a:ext cx="198576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человеческого досто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8d3e"/>
                </a:solidFill>
                <a:latin typeface="Verdana"/>
              </a:rPr>
              <a:t>Пропущенные слова : дружба, уважение, расположение, человеколюбие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, чтобы нас уважали, то мы также должны иметь _______ к другим людям.( Кант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крет успеха в обществе прост: нужна сердечность и _______ к другим.(Эмерсо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 быть любимы, то надо также проявить _________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ее, что есть в жизни человека,- это его __________ с другими людьми.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Паломничеств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м объектом паломничества христиан является _______ в городе 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мусульман чрезвычайно важно паломничество в город 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удеи главной своей святыней считают город _____, храм, который получил название 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ломничества в буддизме ( _____) начались с поклонения останкам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Религиозные праздник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иудаизма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христиан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мусульман- 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ый важный праздник буддистов- 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__________ , уметь _________   с существованием чего-либо, кого-либо, быть ___________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8d3e"/>
                </a:solidFill>
                <a:latin typeface="Verdana"/>
              </a:rPr>
              <a:t>Выдержка, примирение, великодушие, снисходительность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нисходительный, великодушный, милосерд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щает, принимае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выдержанным , уметь  мириться  с существованием чего-либо, кого-либо, быть снисходительным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4:54:28Z</dcterms:created>
  <dc:creator>admin</dc:creator>
  <dc:description/>
  <dc:language>en-US</dc:language>
  <cp:lastModifiedBy>Людмила</cp:lastModifiedBy>
  <dcterms:modified xsi:type="dcterms:W3CDTF">2013-04-12T06:00:49Z</dcterms:modified>
  <cp:revision>40</cp:revision>
  <dc:subject/>
  <dc:title>ТОЛЕРАНТНОСТЬ -ТЕРПИМОСТЬ</dc:title>
</cp:coreProperties>
</file>