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9B5A-7DA6-4059-937A-4FDA2A02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CEBB-F7DB-4600-ABEE-40A43D21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6303-E6CF-437B-B2F6-DE62D0561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2179-7B71-4B08-B0E4-43F16018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0AA2-68D9-40D6-966E-203BDC37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AD36-72AF-4958-8AE9-CD22590C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904A-83C9-4D05-80A3-404976F2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13C6-CD8A-47FD-B3A5-3E1A3E01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D04-FF63-4F47-8249-7E2B7FCE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A9BB-5313-4AEE-9F40-D678AB91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13C5-D9ED-46FA-BF72-48D6F60E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8A3E-C618-4820-A153-184AE0A3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3B2E-F205-488B-AA59-3846A6D960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84872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МОУ «Кировская СОШ»</a:t>
            </a:r>
            <a:br>
              <a:rPr sz="4400"/>
            </a:b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ВОСПИТАНИЕ ТОЛЕРАНТНОСТИ</a:t>
            </a:r>
            <a:br>
              <a:rPr sz="60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 Арестанова Айслу Жанзак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3класс 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Вместе лучш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Сентябрь -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 диагностика учащихся, классный час Культура мира. Человек среди людей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ктя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знакомство с русской национальной культурой, фольклорный праздник «Русские посидел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Ноябр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стория национального костюма (познавательная экскурсия в краеведческий музей), осенние игры и состяз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ека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как встречают Новый год в разных странах (игра-путешествие), новогодний праздник «Свят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Январ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лассный час «Мы-- команда одного корабл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Феврал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аздник «Маслени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рт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читательская конференция по сказкам народов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Апрел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лассный час «Стремись делать добр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й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аздник «Я, ты, он, она—вместе дружная семь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9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4класс 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Учимся договариватьс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Сентябрь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- диагностика учащихся. Классный час «О правах и обязанностях ребёнка». Знакомство с Конвенцией о правах ребёнка и уставом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ктя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психологическая игра «Необитаемы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стр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Ноябр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сихологический тренинг «Научись управлять собо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екабр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есс-конференция (с участием родителей) « Однажды в моём класс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Январь-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 Классный час « Шесть шагов разрешения конфлик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Феврал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встреча с инспектором отдела профилактики правонару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рт--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Классный час «Учимся договариватьс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Апрел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- Классный час «Улыбка и смех приятны для все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игровая программа «Час общен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9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9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авайте учиться говорить друг другу комплимен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«Я хороший, ты хороший»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Нарисуй себя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Заплети косичк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Все мы разные, но все мы вмест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айничек с крыше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рышечка с шише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шишечка с дыро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дырочки пар 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дырочки , дырочка с шишечкой, шишечка с крышечкой, крышечка с чайничко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крышечкой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рышечка с шише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шишечка с дыро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дырочки пар 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дырочки , дырочка с шишечкой, шишечка с крышечкой, крышечка с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Школа является своего рода центром сообщества.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 школе происходит прогнозирование и планирование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будущего, через школу сообщество формулирует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и утверждает собственные перспектив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тти Э. Риэрд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шише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шишечка с дыро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дырочки пар 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дырочки , дырочка с шишечкой, шишечка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дырочкой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дырочки пар 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 дырочки , дырочка с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дыр-дыр-дыр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дыр-дыр-дыр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ар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дё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 идет с  </a:t>
            </a: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дыр-дыр-дыр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ru-RU" sz="5400" spc="-1" strike="noStrike" u="sng">
                <a:solidFill>
                  <a:srgbClr val="ff0066"/>
                </a:solidFill>
                <a:uFillTx/>
                <a:latin typeface="Arial"/>
              </a:rPr>
              <a:t>дыр-дыр-дыр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8000"/>
                </a:solidFill>
                <a:uFillTx/>
                <a:latin typeface="Arial"/>
              </a:rPr>
              <a:t>ши-ши-ш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00ff"/>
                </a:solidFill>
                <a:uFillTx/>
                <a:latin typeface="Arial"/>
              </a:rPr>
              <a:t>ля-ля-ля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бу-бу-б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.  XVIII-XIX в. Франция - Талейран Перигор, князь Беневентск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“tolerantia” (лат.) – терпение – терпимость к иного рода взглядам, нравам, привыч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362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«Воспитание культуры толерантности у детей младшего возраст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усматривает следующие направления обучения толерант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омство детей с принципом уважения человеческого достоинства всех без исключен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Понимание того, что требуется уважать различия между люд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ние принципа взаимодополняемости как основной черты различий. Ученики должны понять, что различия выступают как дополняющие друг друга эле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ние принципа взаимозависимости как основы совместных действий. Учащихся следует приучать к совместному решению проблем и разделению труда при выполнении заданий—это наглядно показывает, как выигрывает каждый при решении проблем через сотруднич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И как результат—приобщение к культуре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1класс  </a:t>
            </a:r>
            <a:r>
              <a:rPr b="1" lang="ru-RU" sz="4400" spc="-1" strike="noStrike" u="sng">
                <a:solidFill>
                  <a:srgbClr val="0000ff"/>
                </a:solidFill>
                <a:uFillTx/>
                <a:latin typeface="Arial"/>
              </a:rPr>
              <a:t>Я и моя сем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8209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Сентяб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–диагностика учащихся( опросник для индивидуального знакомства с воспитаннико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ктяб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день бабушек( в рамках декады пожилых люд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Нояб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--классный час «Моя семь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екаб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--Праздничный концерт «Новогодняя карусель», конкурс на лучшую игрушку Мастерская Деда Мороз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Январ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классный час «На кого я хочу быть похожим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Феврал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конкурс «Сильные, смелые, ловкие, умелые.»(папы и мальчи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рт---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аздник для мам и девочек «Дорогие и любимы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Апрель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 родительское собрание совместно с учащимися, рассказ о профессиях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й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—игра-марафон «Весёлый поезд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2класс </a:t>
            </a:r>
            <a:r>
              <a:rPr b="1" lang="ru-RU" sz="3600" spc="-1" strike="noStrike" u="sng">
                <a:solidFill>
                  <a:srgbClr val="0000ff"/>
                </a:solidFill>
                <a:uFillTx/>
                <a:latin typeface="Arial"/>
              </a:rPr>
              <a:t>Ты да я , да мы с тобой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Сентя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–диагностика учащихся Классный час «Ты да я , да мы с тобой», составление декларации прав и обязанностей учеников 2 кл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ктябрь –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укцион «Книга рекордов нашего клас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Ноя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диспут «Легко ли быть настоящим другом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екаб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читательская конференция по сказкам Х.К. Андерсена, новогодний бал-маскарад «Новогодний коктейл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Январ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классный час «Я и моё им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Февраль-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-- праздник «Мама, папа, я—спортивная семь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рт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конкурс «Мисс и мистер клас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Апрель—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лассный час «О дружб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Ма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—КВН «Наш клас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5:46:09Z</dcterms:created>
  <dc:creator>User</dc:creator>
  <dc:description/>
  <dc:language>en-US</dc:language>
  <cp:lastModifiedBy>User</cp:lastModifiedBy>
  <dcterms:modified xsi:type="dcterms:W3CDTF">2010-11-02T08:35:28Z</dcterms:modified>
  <cp:revision>8</cp:revision>
  <dc:subject/>
  <dc:title>Слайд 1</dc:title>
</cp:coreProperties>
</file>