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19.png" ContentType="image/png"/>
  <Override PartName="/ppt/media/image24.jpeg" ContentType="image/jpeg"/>
  <Override PartName="/ppt/media/image5.png" ContentType="image/png"/>
  <Override PartName="/ppt/media/image10.png" ContentType="image/png"/>
  <Override PartName="/ppt/media/image23.jpeg" ContentType="image/jpeg"/>
  <Override PartName="/ppt/media/image18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5.jpeg" ContentType="image/jpeg"/>
  <Override PartName="/ppt/media/image25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17E9-2870-4ED4-9372-42FCFB4B5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C6D1-5E59-49FC-A1CC-71A2868B7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7E67-B624-463D-AD34-6DB9F26AB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BFAD-6207-4D41-831B-BC10C22B5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F41FF-75B9-4F00-A0F5-6B3FF90BC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83044-6FF1-4CEC-BAFB-9FD19B1DA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81533-8342-4BDE-A191-8AE74E348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27A19-5E8E-4A03-8DD4-D9B9200D8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9EF32-C60C-4D35-8848-A0A28C600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D862F-A485-4952-A47A-A3C95B515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4FEF5-5C69-4A74-8C98-E4B226183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F915-BB7E-4B08-9957-964343CBC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B6C52-765C-437D-AD6E-1460ADEE9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0E856-1F3D-4AF9-9F92-214852B2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EB742-3EC8-444A-8412-0E856EA6F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3BA5F-0157-433F-9B5D-A0A4D26DC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829A2-A4CA-4ADD-ACFB-7E573BB59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BB563-90D2-4423-B59F-4FDE9B7C3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950D8-3B61-417E-942E-398B3DADF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BC5BE-BBD8-4724-9159-99AD66A3E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87120-2CB5-4419-8B6B-72136CE85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9FB7A-2279-4CEA-B9E7-5ED20A366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D096-6AF4-4002-8AE8-CA5169B9B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2A8BE-79DD-44FC-9B42-89375D205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0387B-2AB2-45D5-85E0-D77A207F5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21D84-598F-4591-91DA-2D3A94E9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3E4EF-0D8B-4356-8183-DA58EF180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9AD94-86EB-4321-BED6-912553D9D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46443-99FE-4F9F-B62C-7FB8E467E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871FF-7774-42B5-AFE9-C66C4925F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2DE4E-A2C7-43E4-A803-CCC03E8A9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10CB8-4751-4B19-8D1E-362264D8D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3F94E-4B74-4121-9D6E-DFF395B14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F2A7-FAA7-4DF3-B6EC-95A8CE634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7F5EC-DAB5-4DFF-B240-BC4110B14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444D4-47FB-42E0-A115-07CA03856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CA7F5-5EA3-4FD3-B787-AE64C2997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69F64-5345-48CD-942A-DC22FA1CB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4DA85-F3F6-4AF2-B10E-5A081E96C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62B5F-1A9D-41AD-A51F-31B10A5A1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C245A-B9F3-4937-8B54-06396894F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80D47-9862-46D6-B848-CB9BC83F6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56FC5-7318-47BF-9403-03B56621C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1130-A421-4200-A9C1-B6CD90D70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B0C4-92F2-4462-BE88-235C15DFA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F9BD-4008-4E5E-816D-0F92BF606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D6AA-3F9E-4935-8DA0-A7E5506EA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FCC5-C068-4DE4-A842-16A8F5189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5a5155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5a5155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5a5155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5a5155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5a5155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92151-C862-4A4D-B23F-212830FD4C2F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5a5155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5a5155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5a5155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5a5155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5a5155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9D91B-B421-49B0-A7E4-CC52A601A814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5a5155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5a5155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5a5155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5a5155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5a5155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31740-A508-4F8C-BD84-E8F84C040774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5a5155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5a5155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5a5155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5a5155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5a5155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B96DE-1E93-4901-8025-21AF182D6B8B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nsportal.ru/nachalnaya-shkola/vospitatelnaya-rabota/prezentatsiya-beseda-o-tolerantnosti-dlya-uchashchikhsya-2-k" TargetMode="External"/><Relationship Id="rId2" Type="http://schemas.openxmlformats.org/officeDocument/2006/relationships/hyperlink" Target="http://images.yandex.ru/yandsearch?text=&#1082;&#1072;&#1088;&#1090;&#1080;&#1085;&#1082;&#1080;%20&#1076;&#1088;&#1091;&#1078;&#1073;&#1072;&amp;stype=image&amp;lr=47&amp;noreask=1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436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Tahoma"/>
              </a:rPr>
              <a:t>Классный час «Поговорим о толерантности»</a:t>
            </a:r>
            <a:endParaRPr b="1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TextBox 1"/>
          <p:cNvSpPr/>
          <p:nvPr/>
        </p:nvSpPr>
        <p:spPr>
          <a:xfrm>
            <a:off x="2916360" y="5084640"/>
            <a:ext cx="597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Автор: Учитель начальных классов МБОУ СОШ № 3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г. Нижнего Новгоро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Кулькова Светлана Андре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002 Улыбка.mp3" descr=""/>
          <p:cNvPicPr/>
          <p:nvPr/>
        </p:nvPicPr>
        <p:blipFill>
          <a:blip r:embed="rId1"/>
          <a:stretch/>
        </p:blipFill>
        <p:spPr>
          <a:xfrm>
            <a:off x="108000" y="5493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21110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Рисунок 1" descr=""/>
          <p:cNvPicPr/>
          <p:nvPr/>
        </p:nvPicPr>
        <p:blipFill>
          <a:blip r:embed="rId1"/>
          <a:stretch/>
        </p:blipFill>
        <p:spPr>
          <a:xfrm>
            <a:off x="971640" y="0"/>
            <a:ext cx="7116840" cy="68580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Рисунок 1" descr=""/>
          <p:cNvPicPr/>
          <p:nvPr/>
        </p:nvPicPr>
        <p:blipFill>
          <a:blip r:embed="rId1"/>
          <a:stretch/>
        </p:blipFill>
        <p:spPr>
          <a:xfrm>
            <a:off x="1547640" y="333360"/>
            <a:ext cx="5753160" cy="3828960"/>
          </a:xfrm>
          <a:prstGeom prst="rect">
            <a:avLst/>
          </a:prstGeom>
          <a:ln w="0">
            <a:noFill/>
          </a:ln>
        </p:spPr>
      </p:pic>
      <p:sp>
        <p:nvSpPr>
          <p:cNvPr id="229" name="TextBox 2"/>
          <p:cNvSpPr/>
          <p:nvPr/>
        </p:nvSpPr>
        <p:spPr>
          <a:xfrm>
            <a:off x="468360" y="4437000"/>
            <a:ext cx="7991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Мы все разны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Кто-то слушает классическую музыку, а кто-то тяжелый рок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Кому-то нравится играть в футбол, а кому-то читать книги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Кто-то любит смотреть кино, а кто-то рисует чудесные картины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Но все мы особенные! И каждый из нас достоин уважени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457200" y="475920"/>
            <a:ext cx="822960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cc"/>
                </a:solidFill>
                <a:latin typeface="Arial Black"/>
              </a:rPr>
              <a:t>Будь не таким, как другие, и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cc"/>
                </a:solidFill>
                <a:latin typeface="Arial Black"/>
              </a:rPr>
              <a:t>позволь другим быть другими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cc"/>
                </a:solidFill>
                <a:latin typeface="Trebuchet MS"/>
              </a:rPr>
              <a:t>Хенрик Ягодзинский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1" name="Рисунок 1" descr=""/>
          <p:cNvPicPr/>
          <p:nvPr/>
        </p:nvPicPr>
        <p:blipFill>
          <a:blip r:embed="rId1"/>
          <a:stretch/>
        </p:blipFill>
        <p:spPr>
          <a:xfrm>
            <a:off x="1692360" y="2271600"/>
            <a:ext cx="5832360" cy="43754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131760" y="115920"/>
            <a:ext cx="8815320" cy="158436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1" descr=""/>
          <p:cNvPicPr/>
          <p:nvPr/>
        </p:nvPicPr>
        <p:blipFill>
          <a:blip r:embed="rId2"/>
          <a:stretch/>
        </p:blipFill>
        <p:spPr>
          <a:xfrm>
            <a:off x="366840" y="2276640"/>
            <a:ext cx="4589280" cy="3744720"/>
          </a:xfrm>
          <a:prstGeom prst="rect">
            <a:avLst/>
          </a:prstGeom>
          <a:ln w="0">
            <a:noFill/>
          </a:ln>
        </p:spPr>
      </p:pic>
      <p:pic>
        <p:nvPicPr>
          <p:cNvPr id="234" name="Рисунок 2" descr=""/>
          <p:cNvPicPr/>
          <p:nvPr/>
        </p:nvPicPr>
        <p:blipFill>
          <a:blip r:embed="rId3"/>
          <a:stretch/>
        </p:blipFill>
        <p:spPr>
          <a:xfrm>
            <a:off x="5292720" y="1484280"/>
            <a:ext cx="3294000" cy="4942080"/>
          </a:xfrm>
          <a:prstGeom prst="rect">
            <a:avLst/>
          </a:prstGeom>
          <a:ln w="0">
            <a:noFill/>
          </a:ln>
        </p:spPr>
      </p:pic>
      <p:pic>
        <p:nvPicPr>
          <p:cNvPr id="235" name="123 Дорогою добра.mp3" descr=""/>
          <p:cNvPicPr/>
          <p:nvPr/>
        </p:nvPicPr>
        <p:blipFill>
          <a:blip r:embed="rId4"/>
          <a:stretch/>
        </p:blipFill>
        <p:spPr>
          <a:xfrm>
            <a:off x="61920" y="2509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28538" fill="hold"/>
                                        <p:tgtEl>
                                          <p:spTgt spid="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Прямоугольник 3" descr=""/>
          <p:cNvPicPr/>
          <p:nvPr/>
        </p:nvPicPr>
        <p:blipFill>
          <a:blip r:embed="rId1"/>
          <a:stretch/>
        </p:blipFill>
        <p:spPr>
          <a:xfrm>
            <a:off x="189000" y="42840"/>
            <a:ext cx="8839080" cy="161460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8" descr=""/>
          <p:cNvPicPr/>
          <p:nvPr/>
        </p:nvPicPr>
        <p:blipFill>
          <a:blip r:embed="rId2"/>
          <a:stretch/>
        </p:blipFill>
        <p:spPr>
          <a:xfrm>
            <a:off x="90360" y="1184400"/>
            <a:ext cx="4716720" cy="353988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11" descr=""/>
          <p:cNvPicPr/>
          <p:nvPr/>
        </p:nvPicPr>
        <p:blipFill>
          <a:blip r:embed="rId3"/>
          <a:stretch/>
        </p:blipFill>
        <p:spPr>
          <a:xfrm>
            <a:off x="3995640" y="3429000"/>
            <a:ext cx="5060880" cy="3375000"/>
          </a:xfrm>
          <a:prstGeom prst="rect">
            <a:avLst/>
          </a:prstGeom>
          <a:ln w="0">
            <a:noFill/>
          </a:ln>
        </p:spPr>
      </p:pic>
      <p:pic>
        <p:nvPicPr>
          <p:cNvPr id="239" name="045 Если добрый ты.mp3" descr=""/>
          <p:cNvPicPr/>
          <p:nvPr/>
        </p:nvPicPr>
        <p:blipFill>
          <a:blip r:embed="rId4"/>
          <a:stretch/>
        </p:blipFill>
        <p:spPr>
          <a:xfrm>
            <a:off x="90360" y="57456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8" dur="95363" fill="hold"/>
                                        <p:tgtEl>
                                          <p:spTgt spid="2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Gadkiy_utenok_[tfile.ru].avi" descr=""/>
          <p:cNvPicPr/>
          <p:nvPr/>
        </p:nvPicPr>
        <p:blipFill>
          <a:blip r:embed="rId1"/>
          <a:stretch/>
        </p:blipFill>
        <p:spPr>
          <a:xfrm>
            <a:off x="-25560" y="0"/>
            <a:ext cx="9682200" cy="68580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99" dur="indefinite" restart="never" nodeType="tmRoot">
          <p:childTnLst>
            <p:seq>
              <p:cTn id="100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101" nodeType="clickEffect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4" dur="1" fill="hold"/>
                                        <p:tgtEl>
                                          <p:spTgt spid="2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0000"/>
                </a:solidFill>
                <a:latin typeface="Trebuchet MS"/>
              </a:rPr>
              <a:t>Ребята, относитесь друг к другу терпимее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ctr"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Trebuchet MS"/>
              </a:rPr>
              <a:t>Будете толерантны!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2" name="Рисунок 1" descr=""/>
          <p:cNvPicPr/>
          <p:nvPr/>
        </p:nvPicPr>
        <p:blipFill>
          <a:blip r:embed="rId1"/>
          <a:stretch/>
        </p:blipFill>
        <p:spPr>
          <a:xfrm>
            <a:off x="1763640" y="3071880"/>
            <a:ext cx="5400720" cy="35956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Box 1"/>
          <p:cNvSpPr/>
          <p:nvPr/>
        </p:nvSpPr>
        <p:spPr>
          <a:xfrm>
            <a:off x="250920" y="117360"/>
            <a:ext cx="8713800" cy="62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процессе создания презентации были использован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фимова Галина Николаевна. Презентация к классному часу по толерант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00"/>
                </a:solidFill>
                <a:uFillTx/>
                <a:latin typeface="Arial"/>
                <a:hlinkClick r:id="rId1"/>
              </a:rPr>
              <a:t>http://nsportal.ru/nachalnaya-shkola/vospitatelnaya-rabota/prezentatsiya-beseda-o-tolerantnosti-dlya-uchashchikhsya-2-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ртинки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cc00"/>
                </a:solidFill>
                <a:uFillTx/>
                <a:latin typeface="Arial"/>
                <a:hlinkClick r:id="rId2"/>
              </a:rPr>
              <a:t>http://images.yandex.ru/yandsearch?text=%D0%BA%D0%B0%D1%80%D1%82%D0%B8%D0%BD%D0%BA%D0%B8%20%D0%B4%D1%80%D1%83%D0%B6%D0%B1%D0%B0&amp;stype=image&amp;lr=47&amp;noreask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http://images.yandex.ru/yandsearch?text=%D0%BA%D0%B0%D1%80%D1%82%D0%B8%D0%BD%D0%BA%D0%B8%20%D0%B1%D0%B5%D0%BB%D0%B0%D1%8F%20%D0%B2%D0%BE%D1%80%D0%BE%D0%BD%D0%B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http://images.yandex.ru/yandsearch?text=%D0%BA%D0%B0%D1%80%D1%82%D0%B8%D0%BD%D0%BA%D0%B8%20%D1%80%D0%B0%D0%B7%D0%BD%D1%8B%D0%B5%20%D0%BB%D1%8E%D0%B4%D0%B8%20%D0%B2%D0%BC%D0%B5%D1%81%D1%82%D0%B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http://images.yandex.ru/yandsearch?text=%D0%BA%D0%B0%D1%80%D1%82%D0%B8%D0%BD%D0%BA%D0%B8%20%D0%BD%D0%B0%D1%80%D0%BE%D0%B4%D1%8B%20%D1%80%D0%BE%D1%81%D1%81%D0%B8%D0%B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Box 1"/>
          <p:cNvSpPr/>
          <p:nvPr/>
        </p:nvSpPr>
        <p:spPr>
          <a:xfrm>
            <a:off x="324000" y="260280"/>
            <a:ext cx="88200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ихаил Каменецкий. М/ф «Ежик должен быть колючим?» Союзмультфильм, 1990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4.   Владимир Дегтярев. М/ф «Гадкий утенок». Союзмультфильм, 1956 го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.   Минков Н., Энтин Ю. Песня «Дорогою добр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6.   Пляцковский М., Савельев Б. Песня «Если добрый ты…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7.   Пляцковский М., Шаинский В. Песня «Улыбк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250560" y="765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90000"/>
              </a:lnSpc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90000"/>
              </a:lnSpc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 Black"/>
              </a:rPr>
              <a:t>16 ноября – Международный день толерантности. 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Arial Black"/>
              </a:rPr>
              <a:t>Толерантность – это уважение, принятие и понимание многообразия мира. 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circl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10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68360" y="184428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0000"/>
                </a:solidFill>
                <a:latin typeface="Arial Black"/>
              </a:rPr>
              <a:t>Толерантность – это способность признавать мнение людей, которые думают не так, как мы.  Мы допускаем, что кто-то может думать иначе, или действовать иначе, нежели ты сам 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circl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12400" indent="-169560" algn="ctr">
              <a:spcBef>
                <a:spcPts val="11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Trebuchet MS"/>
              </a:rPr>
              <a:t>Толерантность</a:t>
            </a:r>
            <a:r>
              <a:rPr b="1" lang="ru-RU" sz="4400" spc="-1" strike="noStrike">
                <a:solidFill>
                  <a:srgbClr val="ff3300"/>
                </a:solidFill>
                <a:latin typeface="Trebuchet MS"/>
              </a:rPr>
              <a:t> 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  <a:p>
            <a:pPr marL="212400" indent="-16956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Trebuchet MS"/>
              </a:rPr>
              <a:t>– </a:t>
            </a:r>
            <a:r>
              <a:rPr b="1" lang="ru-RU" sz="4400" spc="-1" strike="noStrike">
                <a:solidFill>
                  <a:srgbClr val="ff3300"/>
                </a:solidFill>
                <a:latin typeface="Trebuchet MS"/>
              </a:rPr>
              <a:t>это благосклонность и уважение к  другому.</a:t>
            </a:r>
            <a:r>
              <a:rPr b="0" lang="ru-RU" sz="2200" spc="-1" strike="noStrike">
                <a:solidFill>
                  <a:srgbClr val="ff33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circl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Ezhik_dolzhen_byt_kolyu4im_1990.avi" descr="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9091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46" dur="indefinite" restart="never" nodeType="tmRoot">
          <p:childTnLst>
            <p:seq>
              <p:cTn id="47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48" nodeType="clickEffect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1" dur="1" fill="hold"/>
                                        <p:tgtEl>
                                          <p:spTgt spid="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Объект 3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4235400" cy="5473800"/>
          </a:xfrm>
          <a:prstGeom prst="rect">
            <a:avLst/>
          </a:prstGeom>
          <a:ln w="0">
            <a:noFill/>
          </a:ln>
        </p:spPr>
      </p:pic>
      <p:sp>
        <p:nvSpPr>
          <p:cNvPr id="222" name="TextBox 4"/>
          <p:cNvSpPr/>
          <p:nvPr/>
        </p:nvSpPr>
        <p:spPr>
          <a:xfrm>
            <a:off x="4932360" y="1916280"/>
            <a:ext cx="3960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 Black"/>
                <a:ea typeface="Aharoni"/>
              </a:rPr>
              <a:t>Белая ворона – это человек, который сильно выделяется в коллективе (толпе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12560" y="34092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c00000"/>
                </a:solidFill>
                <a:latin typeface="Arial Black"/>
              </a:rPr>
              <a:t>Мы разные, но мы - вместе!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4" name="Рисунок 1" descr=""/>
          <p:cNvPicPr/>
          <p:nvPr/>
        </p:nvPicPr>
        <p:blipFill>
          <a:blip r:embed="rId1"/>
          <a:stretch/>
        </p:blipFill>
        <p:spPr>
          <a:xfrm>
            <a:off x="2255760" y="2108160"/>
            <a:ext cx="4619880" cy="45943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Рисунок 1" descr=""/>
          <p:cNvPicPr/>
          <p:nvPr/>
        </p:nvPicPr>
        <p:blipFill>
          <a:blip r:embed="rId1"/>
          <a:stretch/>
        </p:blipFill>
        <p:spPr>
          <a:xfrm>
            <a:off x="0" y="-4680"/>
            <a:ext cx="9137520" cy="68626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Рисунок 2" descr=""/>
          <p:cNvPicPr/>
          <p:nvPr/>
        </p:nvPicPr>
        <p:blipFill>
          <a:blip r:embed="rId1"/>
          <a:stretch/>
        </p:blipFill>
        <p:spPr>
          <a:xfrm>
            <a:off x="1187280" y="-4680"/>
            <a:ext cx="7002720" cy="68626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06:59:20Z</dcterms:created>
  <dc:creator>EGN</dc:creator>
  <dc:description/>
  <dc:language>en-US</dc:language>
  <cp:lastModifiedBy>нн</cp:lastModifiedBy>
  <dcterms:modified xsi:type="dcterms:W3CDTF">2012-11-30T17:28:46Z</dcterms:modified>
  <cp:revision>23</cp:revision>
  <dc:subject/>
  <dc:title>Беседа о толерантности для учащихся 2 класса.</dc:title>
</cp:coreProperties>
</file>