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44A1-4625-4A67-92B6-03E11C27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BE61-8562-4691-AE67-1B67680B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406-3AAB-4078-9780-A1940C67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7A10-D019-42F2-8D92-51F5123D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8616-396E-4BD9-AD7F-9F5EC8D6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0286-EF72-4C51-B022-F74F4EE2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D89-62DD-42F5-9B9E-97A5A037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A9E-A5C3-4975-94B1-4F0DB237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815-4862-478A-98FF-4DD0D5C3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B461-936D-4C75-ACA3-90158EB0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641-8F6F-414E-9C3D-A059F77A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4CD5-5DE9-4854-93F6-940F015C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C6F2-9FD4-4859-BAEB-C6232B4D1C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84872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МОУ «Кировская СОШ»</a:t>
            </a:r>
            <a:br>
              <a:rPr sz="4400"/>
            </a:b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ВОСПИТАНИЕ ТОЛЕРАНТНОСТИ</a:t>
            </a:r>
            <a:br>
              <a:rPr sz="6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 Арестанова Айслу Жанзак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3класс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Вместе лучш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 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диагностика учащихся, классный час Культура мира. Человек среди люд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знакомство с русской национальной культурой, фольклорный праздник «Русские посидел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стория национального костюма (познавательная экскурсия в краеведческий музей), осенние игры и состя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ак встречают Новый год в разных странах (игра-путешествие), новогодний праздник «Свят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ассный час «Мы-- команда одного корабл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аздник «Маслен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итательская конференция по сказкам народов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ассный час «Стремись делать доб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аздник «Я, ты, он, она—вместе дружная семь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4класс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Учимся договариватьс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- диагностика учащихся. Классный час «О правах и обязанностях ребёнка». Знакомство с Конвенцией о правах ребёнка и уставом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психологическая игра «Необитаемы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стр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сихологический тренинг «Научись управлять соб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сс-конференция (с участием родителей) « Однажды в моём класс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Классный час « Шесть шагов разрешения конфлик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встреча с инспектором отдела профилактики правонару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-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Классный час «Учимся договариватьс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- Классный час «Улыбка и смех приятны для все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игровая программа «Час обще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авайте учиться говорить друг другу комплимен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«Я хороший, ты хороший»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Нарисуй себя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Заплети косичк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Все мы разные, но все мы вмест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айничек с кры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рышечка с ши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ишечка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дырочки , дырочка с шишечкой, шишечка с крышечкой, крышечка с чайничко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крышечкой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рышечка с ши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ишечка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дырочки , дырочка с шишечкой, шишечка с крышечкой, крышечка 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Школа является своего рода центром сообщества.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 школе происходит прогнозирование и планирование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удущего, через школу сообщество формулирует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 утверждает собственные перспектив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тти Э. Риэрд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ши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ишечка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дырочки , дырочка с шишечкой, шишечка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 дырочки , дырочка 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ар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  XVIII-XIX в. Франция - Талейран Перигор, князь Беневентск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“tolerantia” (лат.) – терпение – терпимость к иного рода взглядам, нравам, привыч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Воспитание культуры толерантности у детей младшего возраст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усматривает следующие направления обучения толерант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ство детей с принципом уважения человеческого достоинства всех без исключе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Понимание того, что требуется уважать различия между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ние принципа взаимодополняемости как основной черты различий. Ученики должны понять, что различия выступают как дополняющие друг друга эле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ние принципа взаимозависимости как основы совместных действий. Учащихся следует приучать к совместному решению проблем и разделению труда при выполнении заданий—это наглядно показывает, как выигрывает каждый при решении проблем через сотрудни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И как результат—приобщение к культуре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1класс  </a:t>
            </a:r>
            <a:r>
              <a:rPr b="1" lang="ru-RU" sz="4400" spc="-1" strike="noStrike" u="sng">
                <a:solidFill>
                  <a:srgbClr val="0000ff"/>
                </a:solidFill>
                <a:uFillTx/>
                <a:latin typeface="Arial"/>
              </a:rPr>
              <a:t>Я и моя сем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209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–диагностика учащихся( опросник для индивидуального знакомства с воспитанник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день бабушек( в рамках декады пожилых люд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--классный час «Моя сем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--Праздничный концерт «Новогодняя карусель», конкурс на лучшую игрушку Мастерская Деда Мороз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классный час «На кого я хочу быть похожим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конкурс «Сильные, смелые, ловкие, умелые.»(папы и мальч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---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аздник для мам и девочек «Дорогие и любимы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 родительское собрание совместно с учащимися, рассказ о профессиях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игра-марафон «Весёлый поез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2класс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Arial"/>
              </a:rPr>
              <a:t>Ты да я , да мы с тобой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диагностика учащихся Классный час «Ты да я , да мы с тобой», составление декларации прав и обязанностей учеников 2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 –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укцион «Книга рекордов нашего клас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диспут «Легко ли быть настоящим другом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читательская конференция по сказкам Х.К. Андерсена, новогодний бал-маскарад «Новогодний коктей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лассный час «Я и моё им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- праздник «Мама, папа, я—спортивная сем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онкурс «Мисс и мистер клас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ассный час «О дружб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ВН «Наш клас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5:46:09Z</dcterms:created>
  <dc:creator>User</dc:creator>
  <dc:description/>
  <dc:language>en-US</dc:language>
  <cp:lastModifiedBy>User</cp:lastModifiedBy>
  <dcterms:modified xsi:type="dcterms:W3CDTF">2010-11-02T08:35:28Z</dcterms:modified>
  <cp:revision>8</cp:revision>
  <dc:subject/>
  <dc:title>Слайд 1</dc:title>
</cp:coreProperties>
</file>