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F07-3573-435D-94E5-157FB689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0C3-6EFB-440B-9FFC-5B7CEA72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1D1-96B0-4368-A10C-5331ADDF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E13-55C0-45C5-905B-5CF47B38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312B-CF5F-464C-848C-83EA6203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5327-2F5D-4811-8DB7-968D2502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0EBC-CDC1-4FD5-B196-264F0221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7AA2-9BC4-46B2-A3CA-CF76E454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B244-DBEE-4175-83FC-70299A73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2E00-A4AE-40ED-A519-0851BC4E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235F-CFC4-4EF0-8016-6690C85B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72E-038B-4221-8E19-69671322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EB51-6B2F-44D2-8BDC-246DBBD0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747B-6912-44B9-BCA2-2BC3BAFC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4124-2C3A-401F-83ED-7F4E3B2E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8377-DF32-4CBF-B4AB-BE5959C5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1EE6-A840-4212-97BD-439EB371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E58D-1311-4909-ABB8-7E53D0A9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5D11-9D75-4B91-8E91-0DA2E4A1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A420-F4EC-4C35-A17A-2CFA8B6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32D7-C356-4D17-9E25-8CDD8E18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A9147-F5F2-480A-9FF9-6CE9F6AF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298-43C9-4224-8881-76D99A48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85D7-2F8C-4EE7-8DA6-DF6E5142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D6C7-F525-4DA0-AA0E-B9A185F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71DD-F7E0-4981-9AF4-8C954527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3333-F290-43F2-B2DB-0880976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331C-AA3A-40C8-B8D5-71A7D32C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6B19-F1CF-4DBA-AD5D-50B8500D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84A9-0A97-45D8-920A-3B933105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FC4E-5946-4451-93A1-E3A17537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914B5-DB2F-46AA-8D97-1B2E772C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181D-C4F1-4550-B8FB-7D4E0377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72A-D71C-474B-B013-8ED8365E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69211-2AF2-4D49-B79B-49483A6D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29EE-3DA8-45AA-B1F1-31A353E5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2F2B-06BB-4393-A5F5-63E1EC11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7EEC3-5466-4108-9D7D-201EF38C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3960-A69F-4E81-8C79-3AF1DB0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1A7CD-A84A-424B-B72E-514C8595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098F-4DE7-45FD-B92A-20D194EC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7CC3-5CA1-48FD-9C3F-9C7D98D7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7E620-AEEF-47E1-AE17-79704432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19768-0BC0-41A8-B606-F450CA59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04D-28C9-4995-AEC9-785A6017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CBCC6-8020-4195-BE44-159B23B6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F626A-D950-4D96-A0AA-868A698A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B4334-7F33-46C5-A1B7-D3A4F167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27501-1667-47F9-AA1B-B9B6EC4D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9A1BC-A3F6-4870-B040-43331B50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4CF9A-2EE9-47B1-B70F-C389E74C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1BB49-9C7F-44D5-AEFC-11FEFD50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3C763-11BA-48AE-86A8-E64CB466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92D8C-54DF-4034-AA9E-BB1CCF93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ABFD5-C758-4ACE-B5F9-C3490D25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DE1-69D2-422A-A5F1-2896215E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C8037-2F96-4D79-92C7-D39F252F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EC0BB-3262-4EF7-98D6-625B5C41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22B65-999B-4358-B2E5-3F1614BA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CC5DC-51E6-4090-93CB-7006076B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1AD90-1E9F-454C-B700-1C89ABB9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1211D-6AC9-4002-897C-7642BAAD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79C41-F570-48D2-81F9-B35BE6AF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18569-7F04-4EA3-ADAA-4184B8E1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AC31C-D477-4425-A89C-BC4EE9B4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EC65B-6636-4635-B145-F42632E8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911-B19A-4571-B858-0AEF1E6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C3789-82F3-4A8E-8B6C-BF29CD82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DCD2E-9142-453F-88F7-C626D637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65F1A-F619-4819-B39A-FA61A0A7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8F6A1-1201-4B25-A16A-D39B5C9E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DE0AB-C0D8-44CB-88E8-2B8882E9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4D615-9711-4BF5-A4C4-E60E0D14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06607-233A-456A-807E-F248521D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3C767-397A-4218-9C92-6EDAE43C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E682A-B681-4826-81C0-40A35BBB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6A2D9-84F4-48F2-99BC-0F0BCC71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702-E7BD-4799-BD83-64CD9068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97271-5C71-4E0D-AA70-AD4BA9D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7C9D0-3E2C-4527-9C2F-1645FF9A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A2E9B-5F4D-479A-A8F1-6C7C78DA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A5CB7-95DD-459E-A563-B95196D5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C55BD-1586-4F09-971E-C3E59916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6E8-C455-4266-928C-339BC1C3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C985-150A-4B73-8F47-BEFC4EAB6AD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A98C-3B47-4A64-8F55-3A5D281BEC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68EF-96CC-4FD1-87E8-F08EDFAF09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C0D9-1023-4D74-AD80-0C1BBB07414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0B04-967B-4592-B5A2-F3B16264861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AEF7-C5E7-42FA-8F39-C46A845A352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C33A-DBBC-4BC5-AA72-0062F41C0D1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63680" y="19080"/>
            <a:ext cx="8216640" cy="212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85694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Относись к людям так, как бы ты хотел, чтобы относились к тебе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«Если  тебе  плохо,  найди  того,  кому  еще  хуже  и  помоги ему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Поставь себя на место того, кого ты осуждаешь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68360" y="1125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все терпимые и терпеливы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добрые, любящ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уважающие, понимающие, поддерживающие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окружающие друг друга забот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внимательные, отзывчивые, интересующиеся планами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успешные, независимые, счастливые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Содержимое 2"/>
          <p:cNvSpPr/>
          <p:nvPr/>
        </p:nvSpPr>
        <p:spPr>
          <a:xfrm>
            <a:off x="539640" y="163980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хочу больше внутренней мёртвост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поскольку всесилен Ты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чёрств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сцели от глухой слепоты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Я не вижу огромной важности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бесценности важных минут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праздн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позволь ей меня обмануть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Попрошу с неотступною твёрдостью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вечной Твоей любв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горд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створённой в моей кров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Жизнь так мало во мне оставила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Доброты и тепла для людей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дьявола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страшной жертвы Твое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.mp4" descr=""/>
          <p:cNvPicPr/>
          <p:nvPr/>
        </p:nvPicPr>
        <p:blipFill>
          <a:blip r:embed="rId1"/>
          <a:stretch/>
        </p:blipFill>
        <p:spPr>
          <a:xfrm>
            <a:off x="111240" y="1628640"/>
            <a:ext cx="8926560" cy="502128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7" descr=""/>
          <p:cNvPicPr/>
          <p:nvPr/>
        </p:nvPicPr>
        <p:blipFill>
          <a:blip r:embed="rId2"/>
          <a:stretch/>
        </p:blipFill>
        <p:spPr>
          <a:xfrm>
            <a:off x="244440" y="55440"/>
            <a:ext cx="8906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378000" y="2273400"/>
            <a:ext cx="84420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Молодые строптивы без послушания и уважения к старшим. Истину отбросили, обычаев не признают. Никто их не понимает, и они не хотят, чтобы их понимали. Несут миру погибель и станут последним его пределом» (надпись на гробнице фараона, ок. 3500 лет до н.э.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К старости недостатки ума становятся всё заметнее, как и недостатки внешности» (Ф.Ларошфуко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Нет ничего безобразнее старика, который не имеет других доказательств пользы его продолжительной жизни, кроме возраста» (Сенек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3680" y="122400"/>
            <a:ext cx="8242200" cy="1225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ia</a:t>
            </a: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испанский) – способность признавать отличные от своих собственных идеи и мнения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tolerance 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(французский) – отношение, при котором допускается, что другие могут думать или действовать иначе, нежели ты са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e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нглийский) – готовность быть терпимым, снисходительность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rbel"/>
              </a:rPr>
              <a:t>kuan rong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 (китайский) – позволять, принимать, быть по отношению к другим великодуш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asamul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рабский) – прощение, снисходительность, мягкость, милосердие, сострадание, терпение, расположенность к другим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терпимость</a:t>
            </a: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375760" cy="847800"/>
          </a:xfrm>
          <a:prstGeom prst="rect">
            <a:avLst/>
          </a:prstGeom>
          <a:ln w="0">
            <a:noFill/>
          </a:ln>
        </p:spPr>
      </p:pic>
      <p:sp>
        <p:nvSpPr>
          <p:cNvPr id="311" name="Овал 8"/>
          <p:cNvSpPr/>
          <p:nvPr/>
        </p:nvSpPr>
        <p:spPr>
          <a:xfrm>
            <a:off x="755640" y="1341360"/>
            <a:ext cx="230364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рпимо относиться к чужим мнениям, поведени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Овал 9"/>
          <p:cNvSpPr/>
          <p:nvPr/>
        </p:nvSpPr>
        <p:spPr>
          <a:xfrm>
            <a:off x="3708360" y="692280"/>
            <a:ext cx="2158920" cy="14414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ощ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Овал 10"/>
          <p:cNvSpPr/>
          <p:nvPr/>
        </p:nvSpPr>
        <p:spPr>
          <a:xfrm>
            <a:off x="6372360" y="1413000"/>
            <a:ext cx="223200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труднич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Овал 11"/>
          <p:cNvSpPr/>
          <p:nvPr/>
        </p:nvSpPr>
        <p:spPr>
          <a:xfrm>
            <a:off x="539640" y="3141720"/>
            <a:ext cx="223200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страд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Овал 12"/>
          <p:cNvSpPr/>
          <p:nvPr/>
        </p:nvSpPr>
        <p:spPr>
          <a:xfrm>
            <a:off x="6732720" y="3284640"/>
            <a:ext cx="216036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человеческоедостоин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Овал 13"/>
          <p:cNvSpPr/>
          <p:nvPr/>
        </p:nvSpPr>
        <p:spPr>
          <a:xfrm>
            <a:off x="971640" y="4869000"/>
            <a:ext cx="2232000" cy="15127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други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Овал 14"/>
          <p:cNvSpPr/>
          <p:nvPr/>
        </p:nvSpPr>
        <p:spPr>
          <a:xfrm>
            <a:off x="3708360" y="5229360"/>
            <a:ext cx="2232000" cy="14904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инять другого таким, какой он ес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Овал 15"/>
          <p:cNvSpPr/>
          <p:nvPr/>
        </p:nvSpPr>
        <p:spPr>
          <a:xfrm>
            <a:off x="6300720" y="5013360"/>
            <a:ext cx="2303640" cy="14400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быть милосердны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19"/>
          <p:cNvSpPr/>
          <p:nvPr/>
        </p:nvSpPr>
        <p:spPr>
          <a:xfrm>
            <a:off x="3276720" y="2708280"/>
            <a:ext cx="3095640" cy="19954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олеран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ая соединительная линия 21"/>
          <p:cNvSpPr/>
          <p:nvPr/>
        </p:nvSpPr>
        <p:spPr>
          <a:xfrm flipH="1">
            <a:off x="5724000" y="2421000"/>
            <a:ext cx="792360" cy="7920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Прямая соединительная линия 25"/>
          <p:cNvSpPr/>
          <p:nvPr/>
        </p:nvSpPr>
        <p:spPr>
          <a:xfrm flipV="1">
            <a:off x="4932360" y="3406680"/>
            <a:ext cx="770040" cy="3096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ая соединительная линия 28"/>
          <p:cNvSpPr/>
          <p:nvPr/>
        </p:nvSpPr>
        <p:spPr>
          <a:xfrm>
            <a:off x="4823640" y="2708280"/>
            <a:ext cx="878040" cy="9144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ая соединительная линия 31"/>
          <p:cNvSpPr/>
          <p:nvPr/>
        </p:nvSpPr>
        <p:spPr>
          <a:xfrm flipH="1" flipV="1">
            <a:off x="4787640" y="2133720"/>
            <a:ext cx="36360" cy="574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ая соединительная линия 40"/>
          <p:cNvSpPr/>
          <p:nvPr/>
        </p:nvSpPr>
        <p:spPr>
          <a:xfrm>
            <a:off x="2916360" y="2492280"/>
            <a:ext cx="1706400" cy="14907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ая соединительная линия 45"/>
          <p:cNvSpPr/>
          <p:nvPr/>
        </p:nvSpPr>
        <p:spPr>
          <a:xfrm>
            <a:off x="6012000" y="3860640"/>
            <a:ext cx="720720" cy="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52"/>
          <p:cNvSpPr/>
          <p:nvPr/>
        </p:nvSpPr>
        <p:spPr>
          <a:xfrm flipV="1">
            <a:off x="2556000" y="3715920"/>
            <a:ext cx="863640" cy="730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56"/>
          <p:cNvSpPr/>
          <p:nvPr/>
        </p:nvSpPr>
        <p:spPr>
          <a:xfrm>
            <a:off x="4788000" y="4653000"/>
            <a:ext cx="0" cy="5763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66"/>
          <p:cNvSpPr/>
          <p:nvPr/>
        </p:nvSpPr>
        <p:spPr>
          <a:xfrm flipV="1">
            <a:off x="2843280" y="4411440"/>
            <a:ext cx="885600" cy="817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70"/>
          <p:cNvSpPr/>
          <p:nvPr/>
        </p:nvSpPr>
        <p:spPr>
          <a:xfrm>
            <a:off x="5795280" y="4292640"/>
            <a:ext cx="841320" cy="9316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9283680" cy="153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345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341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4105440" cy="499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3"/>
          <a:srcRect l="0" t="0" r="28092" b="0"/>
          <a:stretch/>
        </p:blipFill>
        <p:spPr>
          <a:xfrm>
            <a:off x="4356000" y="1700280"/>
            <a:ext cx="46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2"/>
          <a:srcRect l="11765" t="0" r="3257" b="0"/>
          <a:stretch/>
        </p:blipFill>
        <p:spPr>
          <a:xfrm>
            <a:off x="4284720" y="1628640"/>
            <a:ext cx="4680000" cy="4464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3"/>
          <a:srcRect l="13096" t="0" r="17859" b="0"/>
          <a:stretch/>
        </p:blipFill>
        <p:spPr>
          <a:xfrm>
            <a:off x="88920" y="1628640"/>
            <a:ext cx="4176720" cy="4464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4"/>
          <a:srcRect l="11765" t="0" r="3257" b="0"/>
          <a:stretch/>
        </p:blipFill>
        <p:spPr>
          <a:xfrm>
            <a:off x="435600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231840" y="-30240"/>
            <a:ext cx="8845560" cy="1425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Что является причиной конфлик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редные привыч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рузь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ньг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Лен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ла по хозяйству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чёба, рабо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тношения между членами семь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68360" y="1628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оверять друг друг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е повышать голос друг на друг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слышать и слушать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дать совет, выслушать совет другого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поддержать в трудную минут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тараться понять друг друга в любой ситу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2:43:59Z</dcterms:created>
  <dc:creator>wEDOK</dc:creator>
  <dc:description/>
  <dc:language>en-US</dc:language>
  <cp:lastModifiedBy>wEDOK</cp:lastModifiedBy>
  <dcterms:modified xsi:type="dcterms:W3CDTF">2011-12-18T20:41:28Z</dcterms:modified>
  <cp:revision>48</cp:revision>
  <dc:subject/>
  <dc:title>Классный час</dc:title>
</cp:coreProperties>
</file>