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71F-167D-4B23-8DC5-06E861CD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8AD-9F37-41D0-B0FF-EE689EFB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719-F23C-4D5D-AC5A-71757868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1BF-9EBA-41A1-85DF-FA466BE1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C862-18D2-44EE-8A27-205BB2A1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07F8-CA3D-41EA-8341-7554C626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8E96-BE4B-48D1-AB25-BF17FF9D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A650-9E84-4F31-AA2F-73180194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AA25-B442-4CF9-9191-48243A65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6D56-061F-48EE-A302-759DB656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C860-7407-4136-98EA-587FA6D3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BA4-0A71-4AA1-AD20-2D808146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30DD-0740-47C3-912A-3408A18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DABD-5CCE-43D2-9592-CDFCBDA2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01EA-7F7B-4BF4-AC2B-5CCFEB80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3CF9-5D60-4AE0-8F89-80FF60FD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03F9-8E0A-48D8-B24A-B1DC082A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4BF8-211F-4A32-A96E-1F638F9E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1BBD6-9757-47C5-81DB-11091EFE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E590-724A-4501-8662-BC7223E8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E7C7-964C-46AA-AB4A-F44735D1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1E58-B4E3-4EA2-BF30-1885356C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A59-7956-41D2-9CA0-F544E189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AD62C-F04E-43AD-AA62-1AFE5C6E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6227-CF11-46AB-BEE0-D5832D54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4F4C7-F4C6-405D-B586-8D3D1E24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E0BA-5A7B-466D-99AE-7C819F69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C838-5021-4CBA-A047-5E092A04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6B852-9061-4242-AAEA-108523AA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9397-6C3C-4D16-A384-1ED3347B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4A55-2D45-46FE-8F01-6720918A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882DE-642C-4787-860A-3D4C9394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01873-A311-4555-ACC5-9890B37A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FEC-312B-47CF-ACF1-34AAADFC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2662-2184-4FC7-9A86-D8D4E353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67566-5868-4A54-9951-CAFDB59D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8A7F-12D1-439E-AB94-AF3F85DD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7689F-B5BA-4614-BCC6-71472DF7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24C4-839C-4FAB-B489-47D3B756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BFF22-8CC1-47AB-A554-6964C47B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545F1-E844-4BDD-AB24-27A5FC74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8440-9F49-4497-BBA2-9BF58CD8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09C91-00EF-421F-A068-2F30002D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5C707-359A-4ACF-8E61-EC5620A9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F45-CDEE-42AB-A119-E629BE55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99497-EB2E-4A04-85C8-FE03BC56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2C77E-CEF8-4D73-9454-3F6BF829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4C6D4-1CBD-4F5E-A0BA-AA946AB4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C668-DC47-47EA-897A-237FD7E5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DF3B4-55D2-4E84-80B1-DEBC78FF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327F4-C8D2-4F28-81D3-49A7DE78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4A16-16A7-4178-A6DF-FF2AB71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8101E-19CA-465A-A4F6-1D0253FE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D99CD-4D56-4BF7-8728-4BD6D998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C39F-AE8F-4637-AA8B-885B7070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CDA-660E-436D-8C24-44CE9E3B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6C1B7-29EE-4967-BDF6-621848CE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B1F04-23EE-45EE-8E16-A617BE27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4B7BA-2CA3-4459-8517-EF249A0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B80ED-B767-46A7-88FC-94976675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2F7F4-6194-4760-BB94-A3741CD1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F3A0B-14B8-4D84-B149-2E431134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C7129-2076-44A5-B190-EA7F455E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A911-D378-47FA-BAB4-F8591DC3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64A2A-959E-4945-B7B4-A6EDD93C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817D-AA8E-456E-B9C4-3A55425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6EF-461E-4A5D-9D9B-83B3D2A2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E0192-44A2-44EF-A65E-9861A4FA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EC062-7131-4FBC-ACC1-E6FD625A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F6F6-2679-4025-9172-75852BE6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6D60-7B49-4A23-8854-1FE70EC6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38279-50BC-4AE5-BF7A-F8CA76C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D0188-790E-4D40-8361-BD9CC33A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51A2D-6212-4BF4-A619-5C5CE143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002AE-9382-4F44-ABA2-00B5210A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CFF1B-0765-4900-947E-382E2770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54E0F-D86F-4239-93FB-DAD20680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EEE-14E1-41DA-A1C3-8C21F43C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95588-5FEE-4014-A690-D5A3202B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7EDC2-9A5C-4D46-AE67-208D4EE4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A4792-B54C-4E28-ADF0-0C635A68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EEEA-AFD9-4F5F-8BCB-DEEB6591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8C1C3-9797-4A13-B283-F9815D05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E65-A4EE-4286-9876-537B570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E0FE-AD50-41D2-8E4B-AD096353F64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F886-44A2-4817-B6B8-1E82DB016D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B59E-BC00-4B63-8706-D0E1A3856D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2A6D-79A9-4AD6-A444-39A11F988BC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8D50-C4C8-47BE-8C7E-78AC550744C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7F26-7D46-4924-A9B6-5C9667F7EF7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9CAB-AA44-4E43-864C-42750B8223E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63680" y="19080"/>
            <a:ext cx="8216640" cy="212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85694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Относись к людям так, как бы ты хотел, чтобы относились к тебе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«Если  тебе  плохо,  найди  того,  кому  еще  хуже  и  помоги ему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Поставь себя на место того, кого ты осуждаешь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68360" y="1125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все терпимые и терпеливы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добрые, любящ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уважающие, понимающие, поддерживающие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окружающие друг друга забот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внимательные, отзывчивые, интересующиеся планами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успешные, независимые, счастливые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Содержимое 2"/>
          <p:cNvSpPr/>
          <p:nvPr/>
        </p:nvSpPr>
        <p:spPr>
          <a:xfrm>
            <a:off x="539640" y="163980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хочу больше внутренней мёртвост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поскольку всесилен Ты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чёрств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сцели от глухой слепоты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Я не вижу огромной важности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бесценности важных минут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праздн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позволь ей меня обмануть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Попрошу с неотступною твёрдостью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вечной Твоей любв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горд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створённой в моей кров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Жизнь так мало во мне оставила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Доброты и тепла для людей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дьявола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страшной жертвы Твое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.mp4" descr=""/>
          <p:cNvPicPr/>
          <p:nvPr/>
        </p:nvPicPr>
        <p:blipFill>
          <a:blip r:embed="rId1"/>
          <a:stretch/>
        </p:blipFill>
        <p:spPr>
          <a:xfrm>
            <a:off x="111240" y="1628640"/>
            <a:ext cx="8926560" cy="502128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7" descr=""/>
          <p:cNvPicPr/>
          <p:nvPr/>
        </p:nvPicPr>
        <p:blipFill>
          <a:blip r:embed="rId2"/>
          <a:stretch/>
        </p:blipFill>
        <p:spPr>
          <a:xfrm>
            <a:off x="244440" y="55440"/>
            <a:ext cx="8906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378000" y="2273400"/>
            <a:ext cx="84420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Молодые строптивы без послушания и уважения к старшим. Истину отбросили, обычаев не признают. Никто их не понимает, и они не хотят, чтобы их понимали. Несут миру погибель и станут последним его пределом» (надпись на гробнице фараона, ок. 3500 лет до н.э.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К старости недостатки ума становятся всё заметнее, как и недостатки внешности» (Ф.Ларошфуко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Нет ничего безобразнее старика, который не имеет других доказательств пользы его продолжительной жизни, кроме возраста» (Сенек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3680" y="122400"/>
            <a:ext cx="8242200" cy="1225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ia</a:t>
            </a: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испанский) – способность признавать отличные от своих собственных идеи и мнения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tolerance 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(французский) – отношение, при котором допускается, что другие могут думать или действовать иначе, нежели ты са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e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нглийский) – готовность быть терпимым, снисходительность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rbel"/>
              </a:rPr>
              <a:t>kuan rong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 (китайский) – позволять, принимать, быть по отношению к другим великодуш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asamul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рабский) – прощение, снисходительность, мягкость, милосердие, сострадание, терпение, расположенность к другим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терпимость</a:t>
            </a: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375760" cy="847800"/>
          </a:xfrm>
          <a:prstGeom prst="rect">
            <a:avLst/>
          </a:prstGeom>
          <a:ln w="0">
            <a:noFill/>
          </a:ln>
        </p:spPr>
      </p:pic>
      <p:sp>
        <p:nvSpPr>
          <p:cNvPr id="311" name="Овал 8"/>
          <p:cNvSpPr/>
          <p:nvPr/>
        </p:nvSpPr>
        <p:spPr>
          <a:xfrm>
            <a:off x="755640" y="1341360"/>
            <a:ext cx="230364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рпимо относиться к чужим мнениям, поведени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Овал 9"/>
          <p:cNvSpPr/>
          <p:nvPr/>
        </p:nvSpPr>
        <p:spPr>
          <a:xfrm>
            <a:off x="3708360" y="692280"/>
            <a:ext cx="2158920" cy="14414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ощ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Овал 10"/>
          <p:cNvSpPr/>
          <p:nvPr/>
        </p:nvSpPr>
        <p:spPr>
          <a:xfrm>
            <a:off x="6372360" y="1413000"/>
            <a:ext cx="223200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труднич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Овал 11"/>
          <p:cNvSpPr/>
          <p:nvPr/>
        </p:nvSpPr>
        <p:spPr>
          <a:xfrm>
            <a:off x="539640" y="3141720"/>
            <a:ext cx="223200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страд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Овал 12"/>
          <p:cNvSpPr/>
          <p:nvPr/>
        </p:nvSpPr>
        <p:spPr>
          <a:xfrm>
            <a:off x="6732720" y="3284640"/>
            <a:ext cx="216036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человеческоедостоин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Овал 13"/>
          <p:cNvSpPr/>
          <p:nvPr/>
        </p:nvSpPr>
        <p:spPr>
          <a:xfrm>
            <a:off x="971640" y="4869000"/>
            <a:ext cx="2232000" cy="15127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други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Овал 14"/>
          <p:cNvSpPr/>
          <p:nvPr/>
        </p:nvSpPr>
        <p:spPr>
          <a:xfrm>
            <a:off x="3708360" y="5229360"/>
            <a:ext cx="2232000" cy="14904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инять другого таким, какой он ес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Овал 15"/>
          <p:cNvSpPr/>
          <p:nvPr/>
        </p:nvSpPr>
        <p:spPr>
          <a:xfrm>
            <a:off x="6300720" y="5013360"/>
            <a:ext cx="2303640" cy="14400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быть милосердны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19"/>
          <p:cNvSpPr/>
          <p:nvPr/>
        </p:nvSpPr>
        <p:spPr>
          <a:xfrm>
            <a:off x="3276720" y="2708280"/>
            <a:ext cx="3095640" cy="19954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олеран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ая соединительная линия 21"/>
          <p:cNvSpPr/>
          <p:nvPr/>
        </p:nvSpPr>
        <p:spPr>
          <a:xfrm flipH="1">
            <a:off x="5724000" y="2421000"/>
            <a:ext cx="792360" cy="7920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Прямая соединительная линия 25"/>
          <p:cNvSpPr/>
          <p:nvPr/>
        </p:nvSpPr>
        <p:spPr>
          <a:xfrm flipV="1">
            <a:off x="4932360" y="3406680"/>
            <a:ext cx="770040" cy="3096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ая соединительная линия 28"/>
          <p:cNvSpPr/>
          <p:nvPr/>
        </p:nvSpPr>
        <p:spPr>
          <a:xfrm>
            <a:off x="4823640" y="2708280"/>
            <a:ext cx="878040" cy="9144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ая соединительная линия 31"/>
          <p:cNvSpPr/>
          <p:nvPr/>
        </p:nvSpPr>
        <p:spPr>
          <a:xfrm flipH="1" flipV="1">
            <a:off x="4787640" y="2133720"/>
            <a:ext cx="36360" cy="574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ая соединительная линия 40"/>
          <p:cNvSpPr/>
          <p:nvPr/>
        </p:nvSpPr>
        <p:spPr>
          <a:xfrm>
            <a:off x="2916360" y="2492280"/>
            <a:ext cx="1706400" cy="14907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ая соединительная линия 45"/>
          <p:cNvSpPr/>
          <p:nvPr/>
        </p:nvSpPr>
        <p:spPr>
          <a:xfrm>
            <a:off x="6012000" y="3860640"/>
            <a:ext cx="720720" cy="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52"/>
          <p:cNvSpPr/>
          <p:nvPr/>
        </p:nvSpPr>
        <p:spPr>
          <a:xfrm flipV="1">
            <a:off x="2556000" y="3715920"/>
            <a:ext cx="863640" cy="730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56"/>
          <p:cNvSpPr/>
          <p:nvPr/>
        </p:nvSpPr>
        <p:spPr>
          <a:xfrm>
            <a:off x="4788000" y="4653000"/>
            <a:ext cx="0" cy="5763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66"/>
          <p:cNvSpPr/>
          <p:nvPr/>
        </p:nvSpPr>
        <p:spPr>
          <a:xfrm flipV="1">
            <a:off x="2843280" y="4411440"/>
            <a:ext cx="885600" cy="817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70"/>
          <p:cNvSpPr/>
          <p:nvPr/>
        </p:nvSpPr>
        <p:spPr>
          <a:xfrm>
            <a:off x="5795280" y="4292640"/>
            <a:ext cx="841320" cy="9316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9283680" cy="153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345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341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4105440" cy="499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3"/>
          <a:srcRect l="0" t="0" r="28092" b="0"/>
          <a:stretch/>
        </p:blipFill>
        <p:spPr>
          <a:xfrm>
            <a:off x="4356000" y="1700280"/>
            <a:ext cx="46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2"/>
          <a:srcRect l="11765" t="0" r="3257" b="0"/>
          <a:stretch/>
        </p:blipFill>
        <p:spPr>
          <a:xfrm>
            <a:off x="4284720" y="1628640"/>
            <a:ext cx="4680000" cy="4464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3"/>
          <a:srcRect l="13096" t="0" r="17859" b="0"/>
          <a:stretch/>
        </p:blipFill>
        <p:spPr>
          <a:xfrm>
            <a:off x="88920" y="1628640"/>
            <a:ext cx="4176720" cy="4464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4"/>
          <a:srcRect l="11765" t="0" r="3257" b="0"/>
          <a:stretch/>
        </p:blipFill>
        <p:spPr>
          <a:xfrm>
            <a:off x="435600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231840" y="-30240"/>
            <a:ext cx="8845560" cy="1425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Что является причиной конфлик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редные привыч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рузь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ньг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Лен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ла по хозяйству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чёба, рабо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тношения между членами семь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68360" y="1628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оверять друг друг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е повышать голос друг на друг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слышать и слушать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дать совет, выслушать совет другого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поддержать в трудную минут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тараться понять друг друга в любой ситу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2:43:59Z</dcterms:created>
  <dc:creator>wEDOK</dc:creator>
  <dc:description/>
  <dc:language>en-US</dc:language>
  <cp:lastModifiedBy>wEDOK</cp:lastModifiedBy>
  <dcterms:modified xsi:type="dcterms:W3CDTF">2011-12-18T20:41:28Z</dcterms:modified>
  <cp:revision>48</cp:revision>
  <dc:subject/>
  <dc:title>Классный час</dc:title>
</cp:coreProperties>
</file>