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6.jpeg" ContentType="image/jpeg"/>
  <Override PartName="/ppt/media/image5.jpeg" ContentType="image/jpeg"/>
  <Override PartName="/ppt/media/image11.gif" ContentType="image/gif"/>
  <Override PartName="/ppt/media/image7.jpeg" ContentType="image/jpeg"/>
  <Override PartName="/ppt/media/image8.jpeg" ContentType="image/jpeg"/>
  <Override PartName="/ppt/media/image9.gif" ContentType="image/gif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A981-F4AD-41BF-A4FA-B5BF3E23C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2D5F-3894-4884-9378-3AD4E6FAA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950D-303A-4400-93A2-12240B198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2970-C9B0-4A21-B1E7-760832F33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631B-5C0B-4270-81BE-692E9EA72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2A12-CC79-4193-B196-53865E710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4C58-A606-4905-B49B-31F4AEC7E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3E56-CAA2-4923-A55A-B5D48D09D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BC67-452E-4C11-8E41-AEB80DD1F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590C-534D-4032-A1B7-0B24B466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AC7B-DA28-4B9E-A219-4039F418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9A7F-6B4F-41F6-8259-DBAE4B10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BC1E1-EAC3-4B9C-948E-5F184944B1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4091040"/>
            <a:ext cx="8064360" cy="27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6600"/>
                </a:solidFill>
                <a:latin typeface="Comic Sans MS"/>
              </a:rPr>
              <a:t>Мы такие разные, </a:t>
            </a:r>
            <a:br>
              <a:rPr sz="6000"/>
            </a:br>
            <a:r>
              <a:rPr b="1" i="1" lang="en-US" sz="6000" spc="-1" strike="noStrike">
                <a:solidFill>
                  <a:srgbClr val="336600"/>
                </a:solidFill>
                <a:latin typeface="Comic Sans MS"/>
              </a:rPr>
              <a:t>но мы всё-таки ВМЕСТ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195640" y="189000"/>
            <a:ext cx="5056200" cy="4376160"/>
            <a:chOff x="2195640" y="189000"/>
            <a:chExt cx="5056200" cy="4376160"/>
          </a:xfrm>
        </p:grpSpPr>
        <p:pic>
          <p:nvPicPr>
            <p:cNvPr id="43" name="" descr=""/>
            <p:cNvPicPr/>
            <p:nvPr/>
          </p:nvPicPr>
          <p:blipFill>
            <a:blip r:embed="rId1"/>
            <a:srcRect l="6890" t="4215" r="6890" b="4215"/>
            <a:stretch/>
          </p:blipFill>
          <p:spPr>
            <a:xfrm>
              <a:off x="3227400" y="189000"/>
              <a:ext cx="3142800" cy="382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2195640" y="3924360"/>
              <a:ext cx="5056200" cy="64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042920" y="12600"/>
            <a:ext cx="738036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6732360" cy="37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Быть толерантны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означает уважать других, невзирая на различия.                            Это означает быть внимательным к другим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и обращать внимание на то,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что нас сближ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859280" y="4076640"/>
            <a:ext cx="397692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-973080" y="-531720"/>
            <a:ext cx="5352840" cy="43815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908000" y="3456000"/>
            <a:ext cx="2881440" cy="3402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5148360" y="3716280"/>
            <a:ext cx="372888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Толерант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терпимость к чужому мнению, вероисповеданию, поведению, культуре, политическим взглядам, национальности, то есть это проявление терпимости, понимания и уважения к личности другого человека независим от каких-либо отличий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16000" y="17640"/>
            <a:ext cx="6840720" cy="6840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Население планеты Зем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484280"/>
            <a:ext cx="464328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составляет почти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7 миллиардов человек различных национальност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9640" y="1197000"/>
            <a:ext cx="302436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рабы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енгальцы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елорусы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енгры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реки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игорцы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Египтяне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нгуши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алмыки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Латыши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олдаване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емцы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сет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84720" y="2349360"/>
            <a:ext cx="302400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оморы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Русские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Румыны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ербы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Татары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Удмурты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Французы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Хорваты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Цыгане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Черкесы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Шведы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Эскимосы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Япон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780000" y="981000"/>
            <a:ext cx="1512720" cy="2475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5400000">
            <a:off x="5412960" y="2226960"/>
            <a:ext cx="1512720" cy="2475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2573400">
            <a:off x="4787640" y="1267920"/>
            <a:ext cx="1512720" cy="2475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5400000">
            <a:off x="2172960" y="2226960"/>
            <a:ext cx="1512720" cy="2475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780000" y="3645000"/>
            <a:ext cx="1512720" cy="2474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2511600">
            <a:off x="2700000" y="3212640"/>
            <a:ext cx="1512720" cy="2475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9251000">
            <a:off x="2771280" y="1125000"/>
            <a:ext cx="1513080" cy="2475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7822800">
            <a:off x="4836240" y="3234960"/>
            <a:ext cx="1513080" cy="2475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80000" y="2708280"/>
            <a:ext cx="1512720" cy="1393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579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435400" y="907920"/>
            <a:ext cx="59040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5400000">
            <a:off x="3046320" y="1481040"/>
            <a:ext cx="642960" cy="966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2573400">
            <a:off x="2828520" y="1030320"/>
            <a:ext cx="59076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5400000">
            <a:off x="1780560" y="1481040"/>
            <a:ext cx="642960" cy="9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35400" y="2041560"/>
            <a:ext cx="59040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2511600">
            <a:off x="2013120" y="1857240"/>
            <a:ext cx="59040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19251000">
            <a:off x="2041560" y="969480"/>
            <a:ext cx="59040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7822800">
            <a:off x="2820960" y="1909800"/>
            <a:ext cx="642960" cy="966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35400" y="1643040"/>
            <a:ext cx="590400" cy="592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565800">
            <a:off x="5911920" y="914040"/>
            <a:ext cx="59040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5965800">
            <a:off x="6427440" y="1584000"/>
            <a:ext cx="642960" cy="966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3139200">
            <a:off x="6279120" y="1099080"/>
            <a:ext cx="59076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5965800">
            <a:off x="5179680" y="1377360"/>
            <a:ext cx="642960" cy="966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65800">
            <a:off x="5726160" y="2031480"/>
            <a:ext cx="59040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3076800">
            <a:off x="5339520" y="1782000"/>
            <a:ext cx="59040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9816200">
            <a:off x="5513400" y="910800"/>
            <a:ext cx="59040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8388600">
            <a:off x="6135840" y="1969920"/>
            <a:ext cx="642960" cy="966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565800">
            <a:off x="5829480" y="1643040"/>
            <a:ext cx="590400" cy="592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20415000">
            <a:off x="3900240" y="367920"/>
            <a:ext cx="59040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4215000">
            <a:off x="4652640" y="693720"/>
            <a:ext cx="642960" cy="966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388400">
            <a:off x="4311720" y="348840"/>
            <a:ext cx="59040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4215000">
            <a:off x="3461760" y="1120680"/>
            <a:ext cx="642960" cy="9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20415000">
            <a:off x="4282560" y="1434600"/>
            <a:ext cx="59076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1326000">
            <a:off x="3823920" y="1403280"/>
            <a:ext cx="590400" cy="10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18065400">
            <a:off x="3550320" y="559440"/>
            <a:ext cx="590400" cy="10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6637800">
            <a:off x="4585680" y="1173240"/>
            <a:ext cx="642960" cy="966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20415000">
            <a:off x="4070160" y="1072800"/>
            <a:ext cx="590400" cy="592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987640" y="2708280"/>
            <a:ext cx="1366920" cy="252108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4067280" y="2205000"/>
            <a:ext cx="288720" cy="331164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3924360" y="2637000"/>
            <a:ext cx="1800000" cy="208728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59280" y="3716280"/>
            <a:ext cx="2160360" cy="2737080"/>
          </a:xfrm>
          <a:prstGeom prst="flowChartTerminator">
            <a:avLst/>
          </a:prstGeom>
          <a:solidFill>
            <a:srgbClr val="ff99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16:37:26Z</dcterms:created>
  <dc:creator>Котёнок</dc:creator>
  <dc:description/>
  <dc:language>en-US</dc:language>
  <cp:lastModifiedBy>Elena</cp:lastModifiedBy>
  <dcterms:modified xsi:type="dcterms:W3CDTF">2009-12-20T17:32:09Z</dcterms:modified>
  <cp:revision>9</cp:revision>
  <dc:subject/>
  <dc:title>Мы такие разные,  но мы всё-таки ВМЕСТЕ!</dc:title>
</cp:coreProperties>
</file>