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13E-16D2-4B99-967E-D842AA66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FE0-9D30-41E3-9CD0-EEA8EF04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D65-FA70-4008-B350-9B31C19B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E59-4C6F-4DAA-B34D-50E4E52A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9D02-0740-4900-B94A-8A5562E6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7E78-75B1-493D-BB6F-3C6CC71A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5DCE-0F2D-413C-9D6D-A360D9F7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B1D1-385C-4911-9093-B6E3EEBB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A888-71A5-4EC7-A96C-0C3B17AB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E318-482E-4B58-8722-E8F02195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E7F1-4E7A-468D-966F-74BD5342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FDD-2575-4163-AFC4-3498D680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E181-9E19-4DEF-94DC-66D28F2A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85DC-381D-4336-8173-4AFA05DC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D358-BD6E-4E2C-BCCC-FA3B55F3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1B34-2749-4B79-B290-2E2897A7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F268-C170-4001-A47F-8D6DF2A4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F97DA-3A38-4BF2-A419-29060AE5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0098E-3962-434D-B884-0858A443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F0781-26DB-4E9E-B746-71E8D136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A8F5D-07F1-4A81-85C5-BED72AF9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B6CFA-F571-47E5-83DB-B6993E0C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C37-CE34-45D8-B166-D1D889E0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374D8-87DA-4423-A9D3-AA115405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E30FF-A118-4548-9993-E45FAF50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0C317-E869-4D19-B99F-2C58F16F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531EB-4F33-4C50-998E-DA58871F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8CB41-8C7D-4F63-9B15-BDC4A387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00AD9-FCAC-4D7F-80B5-BE0AC5F0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602BA-D39E-41E0-9D9F-7AFE1ECE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F956E-0692-4763-BCA4-3C815BFC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FD821-E22A-4A5E-89AA-A28D8376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BA6BB-CE76-4640-950C-227C853B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D019-29DB-43BF-84AD-C86A7AE0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3A29B-43CE-453B-9A19-B39EA95D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20DDF-BC5F-4673-8A10-8D778C0C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FB6A9-936C-4B77-AAFB-0EB0D4A9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29359-77D2-41FE-8306-5B56C8A3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C528B-4A88-4B6B-A6AC-1228D17B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56941-3CEF-4D02-A78C-5087CABF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E5FD1-D056-4EDD-8DCB-FCFBFA0A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74F09-7299-48F2-BE97-1902106D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03C76-AE08-44A6-ADC5-F4D7319B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61877-B8AB-42BE-8784-DE6684F5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3904-97DE-4E69-A61D-8A4BAC99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53C88-5718-4B68-848B-5B11C6F8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28B8F-D9B0-4E2D-BDC2-86D17C6E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059D0-10F1-430D-9788-024B2828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59DBF-5840-4A19-A15A-F3A6FF9B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6DBBF-A7C8-40B0-BCCC-279B849B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AFA78-DB44-4D51-A3D4-2BBAEDEB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B3314-13AF-4978-B063-E13B67CB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169C9-AD1F-4FAE-BDCF-E666C7E4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48A22-4E19-4152-A402-911FC183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3D7B5-6552-4C45-9B4B-9F2EF9E7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A62E-FBF7-4964-A3F3-CAAF4799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64EAA-FF8D-4660-8256-93669E0A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2BC86-BC53-471F-A4B5-F633E373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95FA9-6111-48DB-A3B8-8463AE66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EABC9-16F6-4E5C-AA58-BFB26C9D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9E925-92A3-4192-85F5-11196CD9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E9DE4-ADB5-4522-82FF-4CFE9E44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7F055-2DB1-4770-B944-538F1948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9679A-A676-41E9-999B-ABFE9782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C88AD-116E-4D36-8707-399C97F5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3E68E-A18D-4DE5-B62F-FF076478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0359-9561-4267-8188-418F22DB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2FF9C-A769-41B4-9AA0-0D527FF4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354F7-CBC0-4A8A-B380-9FE2ABC0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8602B-8762-4561-8EA4-14EB8F82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59CF9-2BDB-4CE5-BCDE-28C6EE5D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3D115-34F4-41AC-9B3A-0E968DB2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6696C-4FB9-4C91-8859-AFB8CE49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F0297-25DB-49A9-B565-732AC2AB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E0098-BA10-4F29-BC8A-587EF65E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60806-EAE0-4A1B-9C1A-DBE48088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6E829-583C-4280-9C02-575F5D10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25E-0C47-428C-9EB2-77C2A1EF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FDA92-A5E7-40FF-B3A1-ED3FB87B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32E64-3877-4663-AB45-5BAC534F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F5BF9-2C4F-40C7-B47F-0B4FE332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E3251-0DE8-419E-9869-DBC2FD37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2023B-563D-4393-A25C-5AD74F57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EBD-FAFD-4465-887D-B812962B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2904-7321-4876-B658-B0728AFB1CA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88F6-2D4E-4CDB-96EB-AC216C45876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46A1-3A8E-4AEE-A433-B250443CA3B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6241-D2AA-4CC1-BDFA-B3CF13CA293D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8B29-7D4B-4244-B941-FDBF4B5220D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4909-3FCB-4CA7-B6C5-8B822DC2743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F67D-70FF-4162-9609-30C1BA8CDD68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63680" y="19080"/>
            <a:ext cx="8216640" cy="2120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95280" y="242064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856944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317520" y="255600"/>
            <a:ext cx="8418600" cy="1152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rbel"/>
              </a:rPr>
              <a:t>  </a:t>
            </a: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«Относись к людям так, как бы ты хотел, чтобы относились к тебе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993366"/>
                </a:solidFill>
                <a:latin typeface="Corbel"/>
              </a:rPr>
              <a:t>«Если  тебе  плохо,  найди  того,  кому  еще  хуже  и  помоги ему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66"/>
                </a:solidFill>
                <a:latin typeface="Corbel"/>
              </a:rPr>
              <a:t>  </a:t>
            </a: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«Поставь себя на место того, кого ты осуждаешь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68360" y="112500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lvl="1" marL="671400" indent="-250920">
              <a:spcBef>
                <a:spcPts val="7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все терпимые и терпеливы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добрые, любящ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уважающие, понимающие, поддерживающие друг друг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окружающие друг друга забото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 внимательные, отзывчивые, интересующиеся планами друг друг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Corbel"/>
              </a:rPr>
              <a:t>- успешные, независимые, счастливые</a:t>
            </a:r>
            <a:r>
              <a:rPr b="1" lang="ru-RU" sz="3200" spc="-1" strike="noStrike">
                <a:solidFill>
                  <a:srgbClr val="993366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Содержимое 2"/>
          <p:cNvSpPr/>
          <p:nvPr/>
        </p:nvSpPr>
        <p:spPr>
          <a:xfrm>
            <a:off x="539640" y="163980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Не хочу больше внутренней мёртвости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И поскольку всесилен Ты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чёрствост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Исцели от глухой слепоты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Я не вижу огромной важности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И бесценности важных минут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праздност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Не позволь ей меня обмануть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Попрошу с неотступною твёрдостью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Ради вечной Твоей любв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гордости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Растворённой в моей крови.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Жизнь так мало во мне оставила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Доброты и тепла для людей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Отними мою душу у дьявола, </a:t>
            </a:r>
            <a:br>
              <a:rPr sz="2000"/>
            </a:br>
            <a:r>
              <a:rPr b="0" i="1" lang="ru-RU" sz="2000" spc="-1" strike="noStrike">
                <a:solidFill>
                  <a:srgbClr val="993366"/>
                </a:solidFill>
                <a:latin typeface="Corbel"/>
              </a:rPr>
              <a:t>Ради страшной жертвы Твоей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1.mp4" descr=""/>
          <p:cNvPicPr/>
          <p:nvPr/>
        </p:nvPicPr>
        <p:blipFill>
          <a:blip r:embed="rId1"/>
          <a:stretch/>
        </p:blipFill>
        <p:spPr>
          <a:xfrm>
            <a:off x="111240" y="1628640"/>
            <a:ext cx="8926560" cy="5021280"/>
          </a:xfrm>
          <a:prstGeom prst="rect">
            <a:avLst/>
          </a:prstGeom>
          <a:ln w="0">
            <a:noFill/>
          </a:ln>
        </p:spPr>
      </p:pic>
      <p:pic>
        <p:nvPicPr>
          <p:cNvPr id="350" name="TextBox 7" descr=""/>
          <p:cNvPicPr/>
          <p:nvPr/>
        </p:nvPicPr>
        <p:blipFill>
          <a:blip r:embed="rId2"/>
          <a:stretch/>
        </p:blipFill>
        <p:spPr>
          <a:xfrm>
            <a:off x="244440" y="55440"/>
            <a:ext cx="89060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378000" y="2273400"/>
            <a:ext cx="844200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78976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Молодые строптивы без послушания и уважения к старшим. Истину отбросили, обычаев не признают. Никто их не понимает, и они не хотят, чтобы их понимали. Несут миру погибель и станут последним его пределом» (надпись на гробнице фараона, ок. 3500 лет до н.э.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К старости недостатки ума становятся всё заметнее, как и недостатки внешности» (Ф.Ларошфуко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Нет ничего безобразнее старика, который не имеет других доказательств пользы его продолжительной жизни, кроме возраста» (Сенека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63680" y="122400"/>
            <a:ext cx="8242200" cy="12254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toleranc</a:t>
            </a:r>
            <a:r>
              <a:rPr b="1" lang="en-US" sz="1900" spc="-1" strike="noStrike">
                <a:solidFill>
                  <a:srgbClr val="c00000"/>
                </a:solidFill>
                <a:latin typeface="Corbel"/>
              </a:rPr>
              <a:t>ia</a:t>
            </a: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(испанский) – способность признавать отличные от своих собственных идеи и мнения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rbel"/>
              </a:rPr>
              <a:t>tolerance </a:t>
            </a:r>
            <a:r>
              <a:rPr b="1" lang="ru-RU" sz="1800" spc="-1" strike="noStrike">
                <a:solidFill>
                  <a:srgbClr val="003399"/>
                </a:solidFill>
                <a:latin typeface="Corbel"/>
              </a:rPr>
              <a:t>(французский) – отношение, при котором допускается, что другие могут думать или действовать иначе, нежели ты са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tolerance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 (английский) – готовность быть терпимым, снисходительность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rbel"/>
              </a:rPr>
              <a:t>kuan rong</a:t>
            </a:r>
            <a:r>
              <a:rPr b="1" lang="ru-RU" sz="1800" spc="-1" strike="noStrike">
                <a:solidFill>
                  <a:srgbClr val="003399"/>
                </a:solidFill>
                <a:latin typeface="Corbel"/>
              </a:rPr>
              <a:t> (китайский) – позволять, принимать, быть по отношению к другим великодушны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t</a:t>
            </a:r>
            <a:r>
              <a:rPr b="1" lang="en-US" sz="1900" spc="-1" strike="noStrike">
                <a:solidFill>
                  <a:srgbClr val="c00000"/>
                </a:solidFill>
                <a:latin typeface="Corbel"/>
              </a:rPr>
              <a:t>asamul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 (арабский) – прощение, снисходительность, мягкость, милосердие, сострадание, терпение, расположенность к другим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orbel"/>
              </a:rPr>
              <a:t>терпимость</a:t>
            </a:r>
            <a:r>
              <a:rPr b="1" lang="ru-RU" sz="19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3399"/>
                </a:solidFill>
                <a:latin typeface="Corbel"/>
              </a:rPr>
              <a:t>(русский) – способность терпеть что-то или кого-то, быть выдержанным, выносливым, стойким, уметь мириться с существованием чего-либо, кого-либо, считаться с мнением других, быть снисходительным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80000"/>
              </a:lnSpc>
              <a:spcBef>
                <a:spcPts val="275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8375760" cy="847800"/>
          </a:xfrm>
          <a:prstGeom prst="rect">
            <a:avLst/>
          </a:prstGeom>
          <a:ln w="0">
            <a:noFill/>
          </a:ln>
        </p:spPr>
      </p:pic>
      <p:sp>
        <p:nvSpPr>
          <p:cNvPr id="311" name="Овал 8"/>
          <p:cNvSpPr/>
          <p:nvPr/>
        </p:nvSpPr>
        <p:spPr>
          <a:xfrm>
            <a:off x="755640" y="1341360"/>
            <a:ext cx="2303640" cy="15112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рпимо относиться к чужим мнениям, поведению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Овал 9"/>
          <p:cNvSpPr/>
          <p:nvPr/>
        </p:nvSpPr>
        <p:spPr>
          <a:xfrm>
            <a:off x="3708360" y="692280"/>
            <a:ext cx="2158920" cy="144144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ощ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Овал 10"/>
          <p:cNvSpPr/>
          <p:nvPr/>
        </p:nvSpPr>
        <p:spPr>
          <a:xfrm>
            <a:off x="6372360" y="1413000"/>
            <a:ext cx="2232000" cy="143964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отруднич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Овал 11"/>
          <p:cNvSpPr/>
          <p:nvPr/>
        </p:nvSpPr>
        <p:spPr>
          <a:xfrm>
            <a:off x="539640" y="3141720"/>
            <a:ext cx="2232000" cy="15112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острада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Овал 12"/>
          <p:cNvSpPr/>
          <p:nvPr/>
        </p:nvSpPr>
        <p:spPr>
          <a:xfrm>
            <a:off x="6732720" y="3284640"/>
            <a:ext cx="2160360" cy="143964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важать человеческоедостоинств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Овал 13"/>
          <p:cNvSpPr/>
          <p:nvPr/>
        </p:nvSpPr>
        <p:spPr>
          <a:xfrm>
            <a:off x="971640" y="4869000"/>
            <a:ext cx="2232000" cy="151272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важать других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Овал 14"/>
          <p:cNvSpPr/>
          <p:nvPr/>
        </p:nvSpPr>
        <p:spPr>
          <a:xfrm>
            <a:off x="3708360" y="5229360"/>
            <a:ext cx="2232000" cy="14904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ринять другого таким, какой он ест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Овал 15"/>
          <p:cNvSpPr/>
          <p:nvPr/>
        </p:nvSpPr>
        <p:spPr>
          <a:xfrm>
            <a:off x="6300720" y="5013360"/>
            <a:ext cx="2303640" cy="144000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быть милосердны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Овал 19"/>
          <p:cNvSpPr/>
          <p:nvPr/>
        </p:nvSpPr>
        <p:spPr>
          <a:xfrm>
            <a:off x="3276720" y="2708280"/>
            <a:ext cx="3095640" cy="199548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олеран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Прямая соединительная линия 21"/>
          <p:cNvSpPr/>
          <p:nvPr/>
        </p:nvSpPr>
        <p:spPr>
          <a:xfrm flipH="1">
            <a:off x="5724000" y="2421000"/>
            <a:ext cx="792360" cy="79200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Прямая соединительная линия 25"/>
          <p:cNvSpPr/>
          <p:nvPr/>
        </p:nvSpPr>
        <p:spPr>
          <a:xfrm flipV="1">
            <a:off x="4932360" y="3406680"/>
            <a:ext cx="770040" cy="30960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Прямая соединительная линия 28"/>
          <p:cNvSpPr/>
          <p:nvPr/>
        </p:nvSpPr>
        <p:spPr>
          <a:xfrm>
            <a:off x="4823640" y="2708280"/>
            <a:ext cx="878040" cy="91440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Прямая соединительная линия 31"/>
          <p:cNvSpPr/>
          <p:nvPr/>
        </p:nvSpPr>
        <p:spPr>
          <a:xfrm flipH="1" flipV="1">
            <a:off x="4787640" y="2133720"/>
            <a:ext cx="36360" cy="5745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ая соединительная линия 40"/>
          <p:cNvSpPr/>
          <p:nvPr/>
        </p:nvSpPr>
        <p:spPr>
          <a:xfrm>
            <a:off x="2916360" y="2492280"/>
            <a:ext cx="1706400" cy="14907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Прямая соединительная линия 45"/>
          <p:cNvSpPr/>
          <p:nvPr/>
        </p:nvSpPr>
        <p:spPr>
          <a:xfrm>
            <a:off x="6012000" y="3860640"/>
            <a:ext cx="720720" cy="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ая соединительная линия 52"/>
          <p:cNvSpPr/>
          <p:nvPr/>
        </p:nvSpPr>
        <p:spPr>
          <a:xfrm flipV="1">
            <a:off x="2556000" y="3715920"/>
            <a:ext cx="863640" cy="7308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56"/>
          <p:cNvSpPr/>
          <p:nvPr/>
        </p:nvSpPr>
        <p:spPr>
          <a:xfrm>
            <a:off x="4788000" y="4653000"/>
            <a:ext cx="0" cy="5763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ая соединительная линия 66"/>
          <p:cNvSpPr/>
          <p:nvPr/>
        </p:nvSpPr>
        <p:spPr>
          <a:xfrm flipV="1">
            <a:off x="2843280" y="4411440"/>
            <a:ext cx="885600" cy="81756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70"/>
          <p:cNvSpPr/>
          <p:nvPr/>
        </p:nvSpPr>
        <p:spPr>
          <a:xfrm>
            <a:off x="5795280" y="4292640"/>
            <a:ext cx="841320" cy="931680"/>
          </a:xfrm>
          <a:prstGeom prst="line">
            <a:avLst/>
          </a:prstGeom>
          <a:ln cap="rnd" w="6480">
            <a:solidFill>
              <a:srgbClr val="f0a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9283680" cy="1536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7345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341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179280" y="1600200"/>
            <a:ext cx="4105440" cy="4997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3"/>
          <a:srcRect l="0" t="0" r="28092" b="0"/>
          <a:stretch/>
        </p:blipFill>
        <p:spPr>
          <a:xfrm>
            <a:off x="4356000" y="1700280"/>
            <a:ext cx="4608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2"/>
          <a:srcRect l="11765" t="0" r="3257" b="0"/>
          <a:stretch/>
        </p:blipFill>
        <p:spPr>
          <a:xfrm>
            <a:off x="4284720" y="1628640"/>
            <a:ext cx="4680000" cy="4464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3"/>
          <a:srcRect l="13096" t="0" r="17859" b="0"/>
          <a:stretch/>
        </p:blipFill>
        <p:spPr>
          <a:xfrm>
            <a:off x="88920" y="1628640"/>
            <a:ext cx="4176720" cy="4464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4"/>
          <a:srcRect l="11765" t="0" r="3257" b="0"/>
          <a:stretch/>
        </p:blipFill>
        <p:spPr>
          <a:xfrm>
            <a:off x="4356000" y="1628640"/>
            <a:ext cx="4680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231840" y="-30240"/>
            <a:ext cx="8845560" cy="14256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1000"/>
          </a:bodyPr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Что является причиной конфликт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редные привычк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рузь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еньг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Лень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ела по хозяйству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чёба, работ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тношения между членами семь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68360" y="16286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оверять друг друг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Не повышать голос друг на друг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меть слышать и слушать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меть дать совет, выслушать совет другого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меть поддержать в трудную минут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тараться понять друг друга в любой ситуац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2:43:59Z</dcterms:created>
  <dc:creator>wEDOK</dc:creator>
  <dc:description/>
  <dc:language>en-US</dc:language>
  <cp:lastModifiedBy>wEDOK</cp:lastModifiedBy>
  <dcterms:modified xsi:type="dcterms:W3CDTF">2011-12-18T20:41:28Z</dcterms:modified>
  <cp:revision>48</cp:revision>
  <dc:subject/>
  <dc:title>Классный час</dc:title>
</cp:coreProperties>
</file>